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CF0-CCB7-48CE-BC7F-78519BB1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75E-C646-4607-A53E-35C359DA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09C-7857-484C-95D1-F6B1F47D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AB4-3E53-4D05-81C2-1573FBB5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F2BE-2366-48F7-B624-66ABE460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B4D9-F9A8-44AD-8283-FB8F56D6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CCD4-9F93-4734-AA79-22C3B166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E655-75D3-4C2D-BB61-05CCA9FC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48AC-7760-4E1B-BEE9-32408487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0661-A1BA-4F88-ACAD-A582A091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EFB1-41D4-4C4C-B7AA-E81C842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CBE-B095-4EA9-8259-153984E3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6156-9721-4CCD-A954-E3D6B8A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B2F9-2DE8-40D4-A871-6BF4026A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B65-654F-49DD-AF25-CE5E63C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216-A727-4D9A-88A7-A89D352F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E97A-4E90-442E-8666-5858EAF2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F7E-A8EC-4F5A-AB8D-F955165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52F-04BA-4BE9-B4DB-DD71D847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611-0583-4FE1-A3DC-61474AC3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973-94CB-419C-A63E-F15BA814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DB3-7F7E-491B-A997-A8707009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452-81AD-4572-B47F-D05B973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285-BEC1-43F4-84CD-83CF3A0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34D5-5CC9-47CF-B05E-17991D4149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408-4311-440E-A6E4-FE9A9EE9AC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6;&#1077;&#1076;&#1072;&#1082;&#1090;&#1080;&#1088;&#1086;&#1074;&#1072;&#1085;&#1080;&#1077;/&#1041;&#1077;&#1083;&#1082;&#1072;.bmp" TargetMode="External"/><Relationship Id="rId2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6;&#1077;&#1076;&#1072;&#1082;&#1090;&#1080;&#1088;&#1086;&#1074;&#1072;&#1085;&#1080;&#1077;/&#1050;&#1086;&#1090;.bmp" TargetMode="External"/><Relationship Id="rId3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6;&#1077;&#1076;&#1072;&#1082;&#1090;&#1080;&#1088;&#1086;&#1074;&#1072;&#1085;&#1080;&#1077;/&#1055;&#1080;&#1085;&#1075;&#1074;&#1080;&#1085;.bmp" TargetMode="External"/><Relationship Id="rId4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6;&#1077;&#1076;&#1072;&#1082;&#1090;&#1080;&#1088;&#1086;&#1074;&#1072;&#1085;&#1080;&#1077;/&#1055;&#1077;&#1090;&#1091;&#1096;&#1086;&#1082;.bmp" TargetMode="External"/><Relationship Id="rId5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6;&#1077;&#1076;&#1072;&#1082;&#1090;&#1080;&#1088;&#1086;&#1074;&#1072;&#1085;&#1080;&#1077;/&#1044;&#1077;&#1090;&#1072;&#1083;&#1080;.bmp" TargetMode="External"/><Relationship Id="rId6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6;&#1077;&#1076;&#1072;&#1082;&#1090;&#1080;&#1088;&#1086;&#1074;&#1072;&#1085;&#1080;&#1077;/&#1056;&#1080;&#1089;&#1091;&#1085;&#1082;&#1080;.bmp" TargetMode="External"/><Relationship Id="rId7" Type="http://schemas.openxmlformats.org/officeDocument/2006/relationships/slide" Target="slide2.xml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" Target="slide2.xml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4;&#1087;&#1077;&#1088;&#1072;&#1094;&#1080;&#1080;%20&#1085;&#1072;&#1076;%20&#1092;&#1088;&#1072;&#1075;&#1084;&#1077;&#1085;&#1090;&#1072;&#1084;&#1080;/&#1057;&#1074;&#1077;&#1090;&#1086;&#1092;&#1086;&#1088;.bmp" TargetMode="External"/><Relationship Id="rId2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4;&#1087;&#1077;&#1088;&#1072;&#1094;&#1080;&#1080;%20&#1085;&#1072;&#1076;%20&#1092;&#1088;&#1072;&#1075;&#1084;&#1077;&#1085;&#1090;&#1072;&#1084;&#1080;/&#1042;&#1080;&#1096;&#1085;&#1080;.bmp" TargetMode="External"/><Relationship Id="rId3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4;&#1087;&#1077;&#1088;&#1072;&#1094;&#1080;&#1080;%20&#1085;&#1072;&#1076;%20&#1092;&#1088;&#1072;&#1075;&#1084;&#1077;&#1085;&#1090;&#1072;&#1084;&#1080;/&#1071;&#1073;&#1083;&#1086;&#1082;&#1086;.bmp" TargetMode="External"/><Relationship Id="rId4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4;&#1087;&#1077;&#1088;&#1072;&#1094;&#1080;&#1080;%20&#1085;&#1072;&#1076;%20&#1092;&#1088;&#1072;&#1075;&#1084;&#1077;&#1085;&#1090;&#1072;&#1084;&#1080;/&#1042;&#1080;&#1085;&#1086;&#1075;&#1088;&#1072;&#1076;.bmp" TargetMode="External"/><Relationship Id="rId5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4;&#1087;&#1077;&#1088;&#1072;&#1094;&#1080;&#1080;%20&#1085;&#1072;&#1076;%20&#1092;&#1088;&#1072;&#1075;&#1084;&#1077;&#1085;&#1090;&#1072;&#1084;&#1080;/&#1050;&#1086;&#1087;&#1080;&#1088;&#1086;&#1074;&#1072;&#1085;&#1080;&#1077;.bmp" TargetMode="External"/><Relationship Id="rId6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4;&#1087;&#1077;&#1088;&#1072;&#1094;&#1080;&#1080;%20&#1085;&#1072;&#1076;%20&#1092;&#1088;&#1072;&#1075;&#1084;&#1077;&#1085;&#1090;&#1072;&#1084;&#1080;/&#1052;&#1085;&#1086;&#1075;&#1086;&#1101;&#1090;&#1072;&#1078;&#1082;&#1072;.bmp" TargetMode="External"/><Relationship Id="rId7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4;&#1087;&#1077;&#1088;&#1072;&#1094;&#1080;&#1080;%20&#1085;&#1072;&#1076;%20&#1092;&#1088;&#1072;&#1075;&#1084;&#1077;&#1085;&#1090;&#1072;&#1084;&#1080;/&#1059;&#1083;&#1080;&#1094;&#1072;.bmp" TargetMode="External"/><Relationship Id="rId8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4;&#1087;&#1077;&#1088;&#1072;&#1094;&#1080;&#1080;%20&#1085;&#1072;&#1076;%20&#1092;&#1088;&#1072;&#1075;&#1084;&#1077;&#1085;&#1090;&#1072;&#1084;&#1080;/&#1055;&#1086;&#1077;&#1079;&#1076;.bmp" TargetMode="Externa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48;&#1075;&#1088;&#1072;1.bmp" TargetMode="External"/><Relationship Id="rId2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48;&#1075;&#1088;&#1072;2.bmp" TargetMode="External"/><Relationship Id="rId3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48;&#1075;&#1088;&#1072;3.bmp" TargetMode="External"/><Relationship Id="rId4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48;&#1075;&#1088;&#1072;4.bmp" TargetMode="External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6.xml"/><Relationship Id="rId12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0;&#1088;&#1086;&#1089;&#1089;&#1074;&#1086;&#1088;&#1076;.bmp" TargetMode="External"/><Relationship Id="rId13" Type="http://schemas.openxmlformats.org/officeDocument/2006/relationships/slide" Target="slide17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95;&#1080;&#1089;&#1090;&#1099;&#1081;%20&#1083;&#1080;&#1089;&#1090;.bmp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slide" Target="slide2.xml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47;&#1072;&#1083;&#1080;&#1074;&#1082;&#1072;.bmp" TargetMode="External"/><Relationship Id="rId2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57;&#1083;&#1086;&#1085;.bmp" TargetMode="External"/><Relationship Id="rId3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50;&#1086;&#1090;&#1105;&#1085;&#1086;&#1082;.bmp" TargetMode="External"/><Relationship Id="rId4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43;&#1086;&#1083;&#1091;&#1073;&#1100;.bmp" TargetMode="External"/><Relationship Id="rId5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43;&#1088;&#1091;&#1079;&#1086;&#1074;&#1080;&#1082;.bmp" TargetMode="External"/><Relationship Id="rId6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55;_&#1057;&#1087;_&#1101;.bmp" TargetMode="External"/><Relationship Id="rId7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64;&#1090;&#1088;&#1080;&#1093;&#1086;&#1074;&#1082;&#1072;.bmp" TargetMode="External"/><Relationship Id="rId8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52;&#1072;&#1089;&#1096;&#1090;&#1072;&#1073;&#1080;&#1088;&#1086;&#1074;&#1072;&#1085;&#1080;&#1077;.bmp" TargetMode="External"/><Relationship Id="rId9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50;&#1086;&#1089;&#1099;&#1085;&#1082;&#1072;.bmp" TargetMode="External"/><Relationship Id="rId10" Type="http://schemas.openxmlformats.org/officeDocument/2006/relationships/hyperlink" Target="file:///&#1056;&#1072;&#1073;&#1086;&#1090;&#1072;%20&#1089;%20&#1075;&#1088;&#1072;&#1092;&#1080;&#1095;&#1077;&#1089;&#1082;&#1086;&#1081;%20&#1080;&#1085;&#1092;&#1086;&#1088;&#1084;&#1072;&#1094;&#1080;&#1077;&#1081;/&#1057;&#1086;&#1079;&#1076;&#1072;&#1085;&#1080;&#1077;%20&#1080;&#1079;&#1086;&#1073;&#1088;&#1072;&#1078;&#1077;&#1085;&#1080;&#1081;/&#1056;&#1080;&#1089;&#1091;&#1085;&#1086;&#1082;.bmp" TargetMode="External"/><Relationship Id="rId11" Type="http://schemas.openxmlformats.org/officeDocument/2006/relationships/slide" Target="slide2.xml"/><Relationship Id="rId12" Type="http://schemas.openxmlformats.org/officeDocument/2006/relationships/slide" Target="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Графический редакт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Monotype Corsiva"/>
              </a:rPr>
              <a:t>Правило  загрузки (открытия) графических изображений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484360" y="2492280"/>
          <a:ext cx="251928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251928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724360" y="2276640"/>
          <a:ext cx="2514600" cy="33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276640"/>
                    <a:ext cx="25146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340000" y="1916280"/>
            <a:ext cx="352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ь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407664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рать пап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484360" y="4724280"/>
          <a:ext cx="2847960" cy="12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724280"/>
                    <a:ext cx="28479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472000" y="1773360"/>
            <a:ext cx="32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ыбрать 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5805360"/>
            <a:ext cx="2159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596360" y="5877000"/>
          <a:ext cx="1008000" cy="76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5877000"/>
                    <a:ext cx="10080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>
            <a:hlinkClick r:id="rId9" action="ppaction://hlinksldjump"/>
          </p:cNvPr>
          <p:cNvSpPr/>
          <p:nvPr/>
        </p:nvSpPr>
        <p:spPr>
          <a:xfrm>
            <a:off x="7812000" y="98100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684360" y="5445000"/>
            <a:ext cx="1079280" cy="621000"/>
          </a:xfrm>
          <a:custGeom>
            <a:avLst/>
            <a:gdLst>
              <a:gd name="textAreaLeft" fmla="*/ 39960 w 1079280"/>
              <a:gd name="textAreaRight" fmla="*/ 1039320 w 107928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31" h="21600">
                <a:moveTo>
                  <a:pt x="0" y="0"/>
                </a:moveTo>
                <a:lnTo>
                  <a:pt x="37531" y="0"/>
                </a:lnTo>
                <a:lnTo>
                  <a:pt x="37531" y="21600"/>
                </a:lnTo>
                <a:lnTo>
                  <a:pt x="0" y="21600"/>
                </a:lnTo>
                <a:close/>
              </a:path>
              <a:path fill="lightenLess" w="37531" h="21600">
                <a:moveTo>
                  <a:pt x="0" y="0"/>
                </a:moveTo>
                <a:lnTo>
                  <a:pt x="37531" y="0"/>
                </a:lnTo>
                <a:lnTo>
                  <a:pt x="36131" y="1400"/>
                </a:lnTo>
                <a:lnTo>
                  <a:pt x="1400" y="1400"/>
                </a:lnTo>
                <a:close/>
              </a:path>
              <a:path fill="darken" w="37531" h="21600">
                <a:moveTo>
                  <a:pt x="37531" y="0"/>
                </a:moveTo>
                <a:lnTo>
                  <a:pt x="37531" y="21600"/>
                </a:lnTo>
                <a:lnTo>
                  <a:pt x="36131" y="20200"/>
                </a:lnTo>
                <a:lnTo>
                  <a:pt x="36131" y="1400"/>
                </a:lnTo>
                <a:close/>
              </a:path>
              <a:path fill="darkenLess" w="37531" h="21600">
                <a:moveTo>
                  <a:pt x="37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31" y="20200"/>
                </a:lnTo>
                <a:close/>
              </a:path>
              <a:path fill="lighten" w="37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0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3492"/>
                </a:solidFill>
                <a:latin typeface="Comic Sans MS"/>
              </a:rPr>
              <a:t>Редактирование графических изображени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исунок в графическом редакторе состоит из пикселей. </a:t>
            </a:r>
            <a:r>
              <a:rPr b="0" lang="ru-RU" sz="2800" spc="-1" strike="noStrike">
                <a:solidFill>
                  <a:srgbClr val="8c0039"/>
                </a:solidFill>
                <a:latin typeface="Monotype Corsiva"/>
              </a:rPr>
              <a:t>Пиксель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– это маленькая точка рисунка в 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Monotype Corsiva"/>
              </a:rPr>
              <a:t>Редактирование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рафического изображения – исправление, дополнение и раскрашивание рисунка на компьют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Monotype Corsiva"/>
              </a:rPr>
              <a:t>Отменит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последнюю операцию в Г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int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: команда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авка/Отменить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Monotype Corsiva"/>
              </a:rPr>
              <a:t>Очистить полностью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содержимое окна  Г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int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: команда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исунок/Очис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451640" y="5805360"/>
            <a:ext cx="1079640" cy="62100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43" h="21600">
                <a:moveTo>
                  <a:pt x="0" y="0"/>
                </a:moveTo>
                <a:lnTo>
                  <a:pt x="37543" y="0"/>
                </a:lnTo>
                <a:lnTo>
                  <a:pt x="37543" y="21600"/>
                </a:lnTo>
                <a:lnTo>
                  <a:pt x="0" y="21600"/>
                </a:lnTo>
                <a:close/>
              </a:path>
              <a:path fill="lightenLess" w="37543" h="21600">
                <a:moveTo>
                  <a:pt x="0" y="0"/>
                </a:moveTo>
                <a:lnTo>
                  <a:pt x="37543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3" h="21600">
                <a:moveTo>
                  <a:pt x="37543" y="0"/>
                </a:moveTo>
                <a:lnTo>
                  <a:pt x="37543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3" h="21600">
                <a:moveTo>
                  <a:pt x="37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907920"/>
            <a:ext cx="3241800" cy="792360"/>
          </a:xfrm>
          <a:custGeom>
            <a:avLst/>
            <a:gdLst>
              <a:gd name="textAreaLeft" fmla="*/ 51120 w 3241800"/>
              <a:gd name="textAreaRight" fmla="*/ 3190680 w 32418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8342" h="21600">
                <a:moveTo>
                  <a:pt x="0" y="0"/>
                </a:moveTo>
                <a:lnTo>
                  <a:pt x="88342" y="0"/>
                </a:lnTo>
                <a:lnTo>
                  <a:pt x="88342" y="21600"/>
                </a:lnTo>
                <a:lnTo>
                  <a:pt x="0" y="21600"/>
                </a:lnTo>
                <a:close/>
              </a:path>
              <a:path fill="lightenLess" w="88342" h="21600">
                <a:moveTo>
                  <a:pt x="0" y="0"/>
                </a:moveTo>
                <a:lnTo>
                  <a:pt x="88342" y="0"/>
                </a:lnTo>
                <a:lnTo>
                  <a:pt x="86942" y="1400"/>
                </a:lnTo>
                <a:lnTo>
                  <a:pt x="1400" y="1400"/>
                </a:lnTo>
                <a:close/>
              </a:path>
              <a:path fill="darken" w="88342" h="21600">
                <a:moveTo>
                  <a:pt x="88342" y="0"/>
                </a:moveTo>
                <a:lnTo>
                  <a:pt x="88342" y="21600"/>
                </a:lnTo>
                <a:lnTo>
                  <a:pt x="86942" y="20200"/>
                </a:lnTo>
                <a:lnTo>
                  <a:pt x="86942" y="1400"/>
                </a:lnTo>
                <a:close/>
              </a:path>
              <a:path fill="darkenLess" w="88342" h="21600">
                <a:moveTo>
                  <a:pt x="88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42" y="20200"/>
                </a:lnTo>
                <a:close/>
              </a:path>
              <a:path fill="lighten" w="88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1773360"/>
            <a:ext cx="3241800" cy="718920"/>
          </a:xfrm>
          <a:custGeom>
            <a:avLst/>
            <a:gdLst>
              <a:gd name="textAreaLeft" fmla="*/ 46440 w 3241800"/>
              <a:gd name="textAreaRight" fmla="*/ 3195360 w 32418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97362" h="21600">
                <a:moveTo>
                  <a:pt x="0" y="0"/>
                </a:moveTo>
                <a:lnTo>
                  <a:pt x="97362" y="0"/>
                </a:lnTo>
                <a:lnTo>
                  <a:pt x="97362" y="21600"/>
                </a:lnTo>
                <a:lnTo>
                  <a:pt x="0" y="21600"/>
                </a:lnTo>
                <a:close/>
              </a:path>
              <a:path fill="lightenLess" w="97362" h="21600">
                <a:moveTo>
                  <a:pt x="0" y="0"/>
                </a:moveTo>
                <a:lnTo>
                  <a:pt x="97362" y="0"/>
                </a:lnTo>
                <a:lnTo>
                  <a:pt x="95962" y="1400"/>
                </a:lnTo>
                <a:lnTo>
                  <a:pt x="1400" y="1400"/>
                </a:lnTo>
                <a:close/>
              </a:path>
              <a:path fill="darken" w="97362" h="21600">
                <a:moveTo>
                  <a:pt x="97362" y="0"/>
                </a:moveTo>
                <a:lnTo>
                  <a:pt x="97362" y="21600"/>
                </a:lnTo>
                <a:lnTo>
                  <a:pt x="95962" y="20200"/>
                </a:lnTo>
                <a:lnTo>
                  <a:pt x="95962" y="1400"/>
                </a:lnTo>
                <a:close/>
              </a:path>
              <a:path fill="darkenLess" w="97362" h="21600">
                <a:moveTo>
                  <a:pt x="97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62" y="20200"/>
                </a:lnTo>
                <a:close/>
              </a:path>
              <a:path fill="lighten" w="97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2565360"/>
            <a:ext cx="3241800" cy="719280"/>
          </a:xfrm>
          <a:custGeom>
            <a:avLst/>
            <a:gdLst>
              <a:gd name="textAreaLeft" fmla="*/ 46440 w 3241800"/>
              <a:gd name="textAreaRight" fmla="*/ 3195360 w 32418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97313" h="21600">
                <a:moveTo>
                  <a:pt x="0" y="0"/>
                </a:moveTo>
                <a:lnTo>
                  <a:pt x="97313" y="0"/>
                </a:lnTo>
                <a:lnTo>
                  <a:pt x="97313" y="21600"/>
                </a:lnTo>
                <a:lnTo>
                  <a:pt x="0" y="21600"/>
                </a:lnTo>
                <a:close/>
              </a:path>
              <a:path fill="lightenLess" w="97313" h="21600">
                <a:moveTo>
                  <a:pt x="0" y="0"/>
                </a:moveTo>
                <a:lnTo>
                  <a:pt x="97313" y="0"/>
                </a:lnTo>
                <a:lnTo>
                  <a:pt x="95914" y="1400"/>
                </a:lnTo>
                <a:lnTo>
                  <a:pt x="1400" y="1400"/>
                </a:lnTo>
                <a:close/>
              </a:path>
              <a:path fill="darken" w="97313" h="21600">
                <a:moveTo>
                  <a:pt x="97313" y="0"/>
                </a:moveTo>
                <a:lnTo>
                  <a:pt x="97313" y="21600"/>
                </a:lnTo>
                <a:lnTo>
                  <a:pt x="95914" y="20200"/>
                </a:lnTo>
                <a:lnTo>
                  <a:pt x="95914" y="1400"/>
                </a:lnTo>
                <a:close/>
              </a:path>
              <a:path fill="darkenLess" w="97313" h="21600">
                <a:moveTo>
                  <a:pt x="97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14" y="20200"/>
                </a:lnTo>
                <a:close/>
              </a:path>
              <a:path fill="lighten" w="97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Пинг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3357720"/>
            <a:ext cx="3241800" cy="718920"/>
          </a:xfrm>
          <a:custGeom>
            <a:avLst/>
            <a:gdLst>
              <a:gd name="textAreaLeft" fmla="*/ 46440 w 3241800"/>
              <a:gd name="textAreaRight" fmla="*/ 3195360 w 32418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97362" h="21600">
                <a:moveTo>
                  <a:pt x="0" y="0"/>
                </a:moveTo>
                <a:lnTo>
                  <a:pt x="97362" y="0"/>
                </a:lnTo>
                <a:lnTo>
                  <a:pt x="97362" y="21600"/>
                </a:lnTo>
                <a:lnTo>
                  <a:pt x="0" y="21600"/>
                </a:lnTo>
                <a:close/>
              </a:path>
              <a:path fill="lightenLess" w="97362" h="21600">
                <a:moveTo>
                  <a:pt x="0" y="0"/>
                </a:moveTo>
                <a:lnTo>
                  <a:pt x="97362" y="0"/>
                </a:lnTo>
                <a:lnTo>
                  <a:pt x="95962" y="1400"/>
                </a:lnTo>
                <a:lnTo>
                  <a:pt x="1400" y="1400"/>
                </a:lnTo>
                <a:close/>
              </a:path>
              <a:path fill="darken" w="97362" h="21600">
                <a:moveTo>
                  <a:pt x="97362" y="0"/>
                </a:moveTo>
                <a:lnTo>
                  <a:pt x="97362" y="21600"/>
                </a:lnTo>
                <a:lnTo>
                  <a:pt x="95962" y="20200"/>
                </a:lnTo>
                <a:lnTo>
                  <a:pt x="95962" y="1400"/>
                </a:lnTo>
                <a:close/>
              </a:path>
              <a:path fill="darkenLess" w="97362" h="21600">
                <a:moveTo>
                  <a:pt x="97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62" y="20200"/>
                </a:lnTo>
                <a:close/>
              </a:path>
              <a:path fill="lighten" w="97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Пету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0000" y="4149720"/>
            <a:ext cx="3241800" cy="719280"/>
          </a:xfrm>
          <a:custGeom>
            <a:avLst/>
            <a:gdLst>
              <a:gd name="textAreaLeft" fmla="*/ 46440 w 3241800"/>
              <a:gd name="textAreaRight" fmla="*/ 3195360 w 32418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97313" h="21600">
                <a:moveTo>
                  <a:pt x="0" y="0"/>
                </a:moveTo>
                <a:lnTo>
                  <a:pt x="97313" y="0"/>
                </a:lnTo>
                <a:lnTo>
                  <a:pt x="97313" y="21600"/>
                </a:lnTo>
                <a:lnTo>
                  <a:pt x="0" y="21600"/>
                </a:lnTo>
                <a:close/>
              </a:path>
              <a:path fill="lightenLess" w="97313" h="21600">
                <a:moveTo>
                  <a:pt x="0" y="0"/>
                </a:moveTo>
                <a:lnTo>
                  <a:pt x="97313" y="0"/>
                </a:lnTo>
                <a:lnTo>
                  <a:pt x="95914" y="1400"/>
                </a:lnTo>
                <a:lnTo>
                  <a:pt x="1400" y="1400"/>
                </a:lnTo>
                <a:close/>
              </a:path>
              <a:path fill="darken" w="97313" h="21600">
                <a:moveTo>
                  <a:pt x="97313" y="0"/>
                </a:moveTo>
                <a:lnTo>
                  <a:pt x="97313" y="21600"/>
                </a:lnTo>
                <a:lnTo>
                  <a:pt x="95914" y="20200"/>
                </a:lnTo>
                <a:lnTo>
                  <a:pt x="95914" y="1400"/>
                </a:lnTo>
                <a:close/>
              </a:path>
              <a:path fill="darkenLess" w="97313" h="21600">
                <a:moveTo>
                  <a:pt x="97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14" y="20200"/>
                </a:lnTo>
                <a:close/>
              </a:path>
              <a:path fill="lighten" w="97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Де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4941720"/>
            <a:ext cx="3241800" cy="719280"/>
          </a:xfrm>
          <a:custGeom>
            <a:avLst/>
            <a:gdLst>
              <a:gd name="textAreaLeft" fmla="*/ 46440 w 3241800"/>
              <a:gd name="textAreaRight" fmla="*/ 3195360 w 32418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97313" h="21600">
                <a:moveTo>
                  <a:pt x="0" y="0"/>
                </a:moveTo>
                <a:lnTo>
                  <a:pt x="97313" y="0"/>
                </a:lnTo>
                <a:lnTo>
                  <a:pt x="97313" y="21600"/>
                </a:lnTo>
                <a:lnTo>
                  <a:pt x="0" y="21600"/>
                </a:lnTo>
                <a:close/>
              </a:path>
              <a:path fill="lightenLess" w="97313" h="21600">
                <a:moveTo>
                  <a:pt x="0" y="0"/>
                </a:moveTo>
                <a:lnTo>
                  <a:pt x="97313" y="0"/>
                </a:lnTo>
                <a:lnTo>
                  <a:pt x="95914" y="1400"/>
                </a:lnTo>
                <a:lnTo>
                  <a:pt x="1400" y="1400"/>
                </a:lnTo>
                <a:close/>
              </a:path>
              <a:path fill="darken" w="97313" h="21600">
                <a:moveTo>
                  <a:pt x="97313" y="0"/>
                </a:moveTo>
                <a:lnTo>
                  <a:pt x="97313" y="21600"/>
                </a:lnTo>
                <a:lnTo>
                  <a:pt x="95914" y="20200"/>
                </a:lnTo>
                <a:lnTo>
                  <a:pt x="95914" y="1400"/>
                </a:lnTo>
                <a:close/>
              </a:path>
              <a:path fill="darkenLess" w="97313" h="21600">
                <a:moveTo>
                  <a:pt x="97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14" y="20200"/>
                </a:lnTo>
                <a:close/>
              </a:path>
              <a:path fill="lighten" w="97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Рису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7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451640" y="5805360"/>
            <a:ext cx="1079640" cy="62100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43" h="21600">
                <a:moveTo>
                  <a:pt x="0" y="0"/>
                </a:moveTo>
                <a:lnTo>
                  <a:pt x="37543" y="0"/>
                </a:lnTo>
                <a:lnTo>
                  <a:pt x="37543" y="21600"/>
                </a:lnTo>
                <a:lnTo>
                  <a:pt x="0" y="21600"/>
                </a:lnTo>
                <a:close/>
              </a:path>
              <a:path fill="lightenLess" w="37543" h="21600">
                <a:moveTo>
                  <a:pt x="0" y="0"/>
                </a:moveTo>
                <a:lnTo>
                  <a:pt x="37543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3" h="21600">
                <a:moveTo>
                  <a:pt x="37543" y="0"/>
                </a:moveTo>
                <a:lnTo>
                  <a:pt x="37543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3" h="21600">
                <a:moveTo>
                  <a:pt x="37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8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3492"/>
                </a:solidFill>
                <a:latin typeface="Comic Sans MS"/>
              </a:rPr>
              <a:t>Операции над фрагментами изображени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68360" y="1412640"/>
            <a:ext cx="657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Palatino Linotype"/>
              </a:rPr>
              <a:t>Фрагмент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компьютерного изображения – часть изображения (рисунка), </a:t>
            </a: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выделенного специальным образом.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В дополнительном меню ГР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int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можно выбрать выделе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с фоном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и выделе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без фона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Для выделения фрагмента в ГР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int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используются инструменты </a:t>
            </a:r>
            <a:r>
              <a:rPr b="0" lang="ru-RU" sz="2800" spc="-1" strike="noStrike">
                <a:solidFill>
                  <a:srgbClr val="8c0039"/>
                </a:solidFill>
                <a:latin typeface="Palatino Linotype"/>
              </a:rPr>
              <a:t>Выделение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(прямоугольником)        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Palatino Linotype"/>
              </a:rPr>
              <a:t>Выделение произвольн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23960" y="723960"/>
            <a:ext cx="49536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939960" y="939960"/>
            <a:ext cx="495000" cy="304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1268640" cy="781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484360" y="3789360"/>
            <a:ext cx="1068480" cy="819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8317080" y="6249960"/>
            <a:ext cx="587160" cy="608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7740720" y="5445000"/>
            <a:ext cx="576360" cy="53352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rId7" action="ppaction://hlinksldjump"/>
          </p:cNvPr>
          <p:cNvSpPr/>
          <p:nvPr/>
        </p:nvSpPr>
        <p:spPr>
          <a:xfrm>
            <a:off x="8207280" y="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684360" y="5445000"/>
            <a:ext cx="1079280" cy="621000"/>
          </a:xfrm>
          <a:custGeom>
            <a:avLst/>
            <a:gdLst>
              <a:gd name="textAreaLeft" fmla="*/ 39960 w 1079280"/>
              <a:gd name="textAreaRight" fmla="*/ 1039320 w 107928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31" h="21600">
                <a:moveTo>
                  <a:pt x="0" y="0"/>
                </a:moveTo>
                <a:lnTo>
                  <a:pt x="37531" y="0"/>
                </a:lnTo>
                <a:lnTo>
                  <a:pt x="37531" y="21600"/>
                </a:lnTo>
                <a:lnTo>
                  <a:pt x="0" y="21600"/>
                </a:lnTo>
                <a:close/>
              </a:path>
              <a:path fill="lightenLess" w="37531" h="21600">
                <a:moveTo>
                  <a:pt x="0" y="0"/>
                </a:moveTo>
                <a:lnTo>
                  <a:pt x="37531" y="0"/>
                </a:lnTo>
                <a:lnTo>
                  <a:pt x="36131" y="1400"/>
                </a:lnTo>
                <a:lnTo>
                  <a:pt x="1400" y="1400"/>
                </a:lnTo>
                <a:close/>
              </a:path>
              <a:path fill="darken" w="37531" h="21600">
                <a:moveTo>
                  <a:pt x="37531" y="0"/>
                </a:moveTo>
                <a:lnTo>
                  <a:pt x="37531" y="21600"/>
                </a:lnTo>
                <a:lnTo>
                  <a:pt x="36131" y="20200"/>
                </a:lnTo>
                <a:lnTo>
                  <a:pt x="36131" y="1400"/>
                </a:lnTo>
                <a:close/>
              </a:path>
              <a:path fill="darkenLess" w="37531" h="21600">
                <a:moveTo>
                  <a:pt x="37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31" y="20200"/>
                </a:lnTo>
                <a:close/>
              </a:path>
              <a:path fill="lighten" w="37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8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Над </a:t>
            </a: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выделенным фрагментом можно выполнить операции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413000"/>
            <a:ext cx="648180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на холсте для рисования: </a:t>
            </a:r>
            <a:r>
              <a:rPr b="0" i="1" lang="ru-RU" sz="2200" spc="-1" strike="noStrike">
                <a:solidFill>
                  <a:srgbClr val="9966ff"/>
                </a:solidFill>
                <a:latin typeface="Comic Sans MS"/>
              </a:rPr>
              <a:t>перемещение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ru-RU" sz="2200" spc="-1" strike="noStrike">
                <a:solidFill>
                  <a:srgbClr val="9966ff"/>
                </a:solidFill>
                <a:latin typeface="Comic Sans MS"/>
              </a:rPr>
              <a:t>копирование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Ctrl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ru-RU" sz="2200" spc="-1" strike="noStrike">
                <a:solidFill>
                  <a:srgbClr val="9966ff"/>
                </a:solidFill>
                <a:latin typeface="Comic Sans MS"/>
              </a:rPr>
              <a:t>удаление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Delete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ru-RU" sz="2200" spc="-1" strike="noStrike">
                <a:solidFill>
                  <a:srgbClr val="9966ff"/>
                </a:solidFill>
                <a:latin typeface="Comic Sans MS"/>
              </a:rPr>
              <a:t>изменение размеров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 (используя опорные точки рамки выделения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б) через специальную память компьютера (буфер обмена): </a:t>
            </a:r>
            <a:r>
              <a:rPr b="1" i="1" lang="ru-RU" sz="2200" spc="-1" strike="noStrike">
                <a:solidFill>
                  <a:srgbClr val="9966ff"/>
                </a:solidFill>
                <a:latin typeface="Comic Sans MS"/>
              </a:rPr>
              <a:t>Вырезать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 (команда Правка/Вырезать), </a:t>
            </a:r>
            <a:r>
              <a:rPr b="1" i="1" lang="ru-RU" sz="2200" spc="-1" strike="noStrike">
                <a:solidFill>
                  <a:srgbClr val="9966ff"/>
                </a:solidFill>
                <a:latin typeface="Comic Sans MS"/>
              </a:rPr>
              <a:t>Копировать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 (команда Правка/Копировать), </a:t>
            </a:r>
            <a:r>
              <a:rPr b="1" i="1" lang="ru-RU" sz="2200" spc="-1" strike="noStrike">
                <a:solidFill>
                  <a:srgbClr val="9966ff"/>
                </a:solidFill>
                <a:latin typeface="Comic Sans MS"/>
              </a:rPr>
              <a:t>Вставить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 (команда Правка/Вставить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андой 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Встави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фрагмент можно вставлять много раз.  Информация в буфере обмена сохраняется, пока в этом буфере не появится новый фраг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анда 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Вырез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удаляет фрагмент с холста для рисования, а команда 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Копиров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900000" y="5516640"/>
            <a:ext cx="611280" cy="647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47640"/>
              <a:gd name="textAreaBottom" fmla="*/ 608040 h 647640"/>
            </a:gdLst>
            <a:ahLst/>
            <a:rect l="textAreaLeft" t="textAreaTop" r="textAreaRight" b="textAreaBottom"/>
            <a:pathLst>
              <a:path w="21600" h="22884">
                <a:moveTo>
                  <a:pt x="0" y="0"/>
                </a:moveTo>
                <a:lnTo>
                  <a:pt x="21600" y="0"/>
                </a:lnTo>
                <a:lnTo>
                  <a:pt x="21600" y="22884"/>
                </a:lnTo>
                <a:lnTo>
                  <a:pt x="0" y="22884"/>
                </a:lnTo>
                <a:close/>
              </a:path>
              <a:path fill="lightenLess" w="21600" h="228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84">
                <a:moveTo>
                  <a:pt x="21600" y="0"/>
                </a:moveTo>
                <a:lnTo>
                  <a:pt x="21600" y="22884"/>
                </a:lnTo>
                <a:lnTo>
                  <a:pt x="20200" y="21484"/>
                </a:lnTo>
                <a:lnTo>
                  <a:pt x="20200" y="1400"/>
                </a:lnTo>
                <a:close/>
              </a:path>
              <a:path fill="darkenLess" w="21600" h="22884">
                <a:moveTo>
                  <a:pt x="21600" y="22884"/>
                </a:moveTo>
                <a:lnTo>
                  <a:pt x="0" y="22884"/>
                </a:lnTo>
                <a:lnTo>
                  <a:pt x="1400" y="21484"/>
                </a:lnTo>
                <a:lnTo>
                  <a:pt x="20200" y="21484"/>
                </a:lnTo>
                <a:close/>
              </a:path>
              <a:path fill="lighten" w="21600" h="22884">
                <a:moveTo>
                  <a:pt x="0" y="228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84"/>
                </a:lnTo>
                <a:close/>
              </a:path>
              <a:path fill="darken" w="21600" h="22884">
                <a:moveTo>
                  <a:pt x="10800" y="4479"/>
                </a:moveTo>
                <a:lnTo>
                  <a:pt x="13376" y="7090"/>
                </a:lnTo>
                <a:lnTo>
                  <a:pt x="13376" y="5349"/>
                </a:lnTo>
                <a:lnTo>
                  <a:pt x="15152" y="5349"/>
                </a:lnTo>
                <a:lnTo>
                  <a:pt x="15152" y="8866"/>
                </a:lnTo>
                <a:lnTo>
                  <a:pt x="17763" y="11442"/>
                </a:lnTo>
                <a:lnTo>
                  <a:pt x="16109" y="11442"/>
                </a:lnTo>
                <a:lnTo>
                  <a:pt x="16109" y="18631"/>
                </a:lnTo>
                <a:lnTo>
                  <a:pt x="5491" y="18631"/>
                </a:lnTo>
                <a:lnTo>
                  <a:pt x="5491" y="11442"/>
                </a:lnTo>
                <a:lnTo>
                  <a:pt x="3837" y="11442"/>
                </a:lnTo>
                <a:close/>
              </a:path>
              <a:path fill="darkenLess" w="21600" h="22884">
                <a:moveTo>
                  <a:pt x="13376" y="7090"/>
                </a:moveTo>
                <a:lnTo>
                  <a:pt x="13376" y="5349"/>
                </a:lnTo>
                <a:lnTo>
                  <a:pt x="15152" y="5349"/>
                </a:lnTo>
                <a:lnTo>
                  <a:pt x="15152" y="8866"/>
                </a:lnTo>
                <a:close/>
              </a:path>
              <a:path fill="darkenLess" w="21600" h="22884">
                <a:moveTo>
                  <a:pt x="9877" y="14941"/>
                </a:moveTo>
                <a:lnTo>
                  <a:pt x="11723" y="14941"/>
                </a:lnTo>
                <a:lnTo>
                  <a:pt x="11723" y="18631"/>
                </a:lnTo>
                <a:lnTo>
                  <a:pt x="16109" y="18631"/>
                </a:lnTo>
                <a:lnTo>
                  <a:pt x="16109" y="11442"/>
                </a:lnTo>
                <a:lnTo>
                  <a:pt x="5491" y="11442"/>
                </a:lnTo>
                <a:lnTo>
                  <a:pt x="5491" y="18631"/>
                </a:lnTo>
                <a:lnTo>
                  <a:pt x="9877" y="18631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539640" y="414972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268280"/>
            <a:ext cx="2808360" cy="648000"/>
          </a:xfrm>
          <a:custGeom>
            <a:avLst/>
            <a:gdLst>
              <a:gd name="textAreaLeft" fmla="*/ 41760 w 2808360"/>
              <a:gd name="textAreaRight" fmla="*/ 2766600 w 28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3572" h="21600">
                <a:moveTo>
                  <a:pt x="0" y="0"/>
                </a:moveTo>
                <a:lnTo>
                  <a:pt x="93572" y="0"/>
                </a:lnTo>
                <a:lnTo>
                  <a:pt x="93572" y="21600"/>
                </a:lnTo>
                <a:lnTo>
                  <a:pt x="0" y="21600"/>
                </a:lnTo>
                <a:close/>
              </a:path>
              <a:path fill="lightenLess" w="93572" h="21600">
                <a:moveTo>
                  <a:pt x="0" y="0"/>
                </a:moveTo>
                <a:lnTo>
                  <a:pt x="93572" y="0"/>
                </a:lnTo>
                <a:lnTo>
                  <a:pt x="92172" y="1400"/>
                </a:lnTo>
                <a:lnTo>
                  <a:pt x="1400" y="1400"/>
                </a:lnTo>
                <a:close/>
              </a:path>
              <a:path fill="darken" w="93572" h="21600">
                <a:moveTo>
                  <a:pt x="93572" y="0"/>
                </a:moveTo>
                <a:lnTo>
                  <a:pt x="93572" y="21600"/>
                </a:lnTo>
                <a:lnTo>
                  <a:pt x="92172" y="20200"/>
                </a:lnTo>
                <a:lnTo>
                  <a:pt x="92172" y="1400"/>
                </a:lnTo>
                <a:close/>
              </a:path>
              <a:path fill="darkenLess" w="93572" h="21600">
                <a:moveTo>
                  <a:pt x="9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72" y="20200"/>
                </a:lnTo>
                <a:close/>
              </a:path>
              <a:path fill="lighten" w="9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1268280"/>
            <a:ext cx="2808360" cy="648000"/>
          </a:xfrm>
          <a:custGeom>
            <a:avLst/>
            <a:gdLst>
              <a:gd name="textAreaLeft" fmla="*/ 41760 w 2808360"/>
              <a:gd name="textAreaRight" fmla="*/ 2766600 w 28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3572" h="21600">
                <a:moveTo>
                  <a:pt x="0" y="0"/>
                </a:moveTo>
                <a:lnTo>
                  <a:pt x="93572" y="0"/>
                </a:lnTo>
                <a:lnTo>
                  <a:pt x="93572" y="21600"/>
                </a:lnTo>
                <a:lnTo>
                  <a:pt x="0" y="21600"/>
                </a:lnTo>
                <a:close/>
              </a:path>
              <a:path fill="lightenLess" w="93572" h="21600">
                <a:moveTo>
                  <a:pt x="0" y="0"/>
                </a:moveTo>
                <a:lnTo>
                  <a:pt x="93572" y="0"/>
                </a:lnTo>
                <a:lnTo>
                  <a:pt x="92172" y="1400"/>
                </a:lnTo>
                <a:lnTo>
                  <a:pt x="1400" y="1400"/>
                </a:lnTo>
                <a:close/>
              </a:path>
              <a:path fill="darken" w="93572" h="21600">
                <a:moveTo>
                  <a:pt x="93572" y="0"/>
                </a:moveTo>
                <a:lnTo>
                  <a:pt x="93572" y="21600"/>
                </a:lnTo>
                <a:lnTo>
                  <a:pt x="92172" y="20200"/>
                </a:lnTo>
                <a:lnTo>
                  <a:pt x="92172" y="1400"/>
                </a:lnTo>
                <a:close/>
              </a:path>
              <a:path fill="darkenLess" w="93572" h="21600">
                <a:moveTo>
                  <a:pt x="9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72" y="20200"/>
                </a:lnTo>
                <a:close/>
              </a:path>
              <a:path fill="lighten" w="9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Виш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276640"/>
            <a:ext cx="2808000" cy="647640"/>
          </a:xfrm>
          <a:custGeom>
            <a:avLst/>
            <a:gdLst>
              <a:gd name="textAreaLeft" fmla="*/ 41760 w 2808000"/>
              <a:gd name="textAreaRight" fmla="*/ 2766240 w 28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3612" h="21600">
                <a:moveTo>
                  <a:pt x="0" y="0"/>
                </a:moveTo>
                <a:lnTo>
                  <a:pt x="93612" y="0"/>
                </a:lnTo>
                <a:lnTo>
                  <a:pt x="93612" y="21600"/>
                </a:lnTo>
                <a:lnTo>
                  <a:pt x="0" y="21600"/>
                </a:lnTo>
                <a:close/>
              </a:path>
              <a:path fill="lightenLess" w="93612" h="21600">
                <a:moveTo>
                  <a:pt x="0" y="0"/>
                </a:moveTo>
                <a:lnTo>
                  <a:pt x="93612" y="0"/>
                </a:lnTo>
                <a:lnTo>
                  <a:pt x="92212" y="1400"/>
                </a:lnTo>
                <a:lnTo>
                  <a:pt x="1400" y="1400"/>
                </a:lnTo>
                <a:close/>
              </a:path>
              <a:path fill="darken" w="93612" h="21600">
                <a:moveTo>
                  <a:pt x="93612" y="0"/>
                </a:moveTo>
                <a:lnTo>
                  <a:pt x="93612" y="21600"/>
                </a:lnTo>
                <a:lnTo>
                  <a:pt x="92212" y="20200"/>
                </a:lnTo>
                <a:lnTo>
                  <a:pt x="92212" y="1400"/>
                </a:lnTo>
                <a:close/>
              </a:path>
              <a:path fill="darkenLess" w="93612" h="21600">
                <a:moveTo>
                  <a:pt x="9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12" y="20200"/>
                </a:lnTo>
                <a:close/>
              </a:path>
              <a:path fill="lighten" w="9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Яб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3284640"/>
            <a:ext cx="2808360" cy="647640"/>
          </a:xfrm>
          <a:custGeom>
            <a:avLst/>
            <a:gdLst>
              <a:gd name="textAreaLeft" fmla="*/ 41760 w 2808360"/>
              <a:gd name="textAreaRight" fmla="*/ 2766600 w 28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3624" h="21600">
                <a:moveTo>
                  <a:pt x="0" y="0"/>
                </a:moveTo>
                <a:lnTo>
                  <a:pt x="93624" y="0"/>
                </a:lnTo>
                <a:lnTo>
                  <a:pt x="93624" y="21600"/>
                </a:lnTo>
                <a:lnTo>
                  <a:pt x="0" y="21600"/>
                </a:lnTo>
                <a:close/>
              </a:path>
              <a:path fill="lightenLess" w="93624" h="21600">
                <a:moveTo>
                  <a:pt x="0" y="0"/>
                </a:moveTo>
                <a:lnTo>
                  <a:pt x="93624" y="0"/>
                </a:lnTo>
                <a:lnTo>
                  <a:pt x="92224" y="1400"/>
                </a:lnTo>
                <a:lnTo>
                  <a:pt x="1400" y="1400"/>
                </a:lnTo>
                <a:close/>
              </a:path>
              <a:path fill="darken" w="93624" h="21600">
                <a:moveTo>
                  <a:pt x="93624" y="0"/>
                </a:moveTo>
                <a:lnTo>
                  <a:pt x="93624" y="21600"/>
                </a:lnTo>
                <a:lnTo>
                  <a:pt x="92224" y="20200"/>
                </a:lnTo>
                <a:lnTo>
                  <a:pt x="92224" y="1400"/>
                </a:lnTo>
                <a:close/>
              </a:path>
              <a:path fill="darkenLess" w="93624" h="21600">
                <a:moveTo>
                  <a:pt x="9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24" y="20200"/>
                </a:lnTo>
                <a:close/>
              </a:path>
              <a:path fill="lighten" w="9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3284640"/>
            <a:ext cx="2808360" cy="647640"/>
          </a:xfrm>
          <a:custGeom>
            <a:avLst/>
            <a:gdLst>
              <a:gd name="textAreaLeft" fmla="*/ 41760 w 2808360"/>
              <a:gd name="textAreaRight" fmla="*/ 2766600 w 28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3624" h="21600">
                <a:moveTo>
                  <a:pt x="0" y="0"/>
                </a:moveTo>
                <a:lnTo>
                  <a:pt x="93624" y="0"/>
                </a:lnTo>
                <a:lnTo>
                  <a:pt x="93624" y="21600"/>
                </a:lnTo>
                <a:lnTo>
                  <a:pt x="0" y="21600"/>
                </a:lnTo>
                <a:close/>
              </a:path>
              <a:path fill="lightenLess" w="93624" h="21600">
                <a:moveTo>
                  <a:pt x="0" y="0"/>
                </a:moveTo>
                <a:lnTo>
                  <a:pt x="93624" y="0"/>
                </a:lnTo>
                <a:lnTo>
                  <a:pt x="92224" y="1400"/>
                </a:lnTo>
                <a:lnTo>
                  <a:pt x="1400" y="1400"/>
                </a:lnTo>
                <a:close/>
              </a:path>
              <a:path fill="darken" w="93624" h="21600">
                <a:moveTo>
                  <a:pt x="93624" y="0"/>
                </a:moveTo>
                <a:lnTo>
                  <a:pt x="93624" y="21600"/>
                </a:lnTo>
                <a:lnTo>
                  <a:pt x="92224" y="20200"/>
                </a:lnTo>
                <a:lnTo>
                  <a:pt x="92224" y="1400"/>
                </a:lnTo>
                <a:close/>
              </a:path>
              <a:path fill="darkenLess" w="93624" h="21600">
                <a:moveTo>
                  <a:pt x="9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24" y="20200"/>
                </a:lnTo>
                <a:close/>
              </a:path>
              <a:path fill="lighten" w="9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Коп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1640" y="4221000"/>
            <a:ext cx="2808360" cy="648000"/>
          </a:xfrm>
          <a:custGeom>
            <a:avLst/>
            <a:gdLst>
              <a:gd name="textAreaLeft" fmla="*/ 41760 w 2808360"/>
              <a:gd name="textAreaRight" fmla="*/ 2766600 w 28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93572" h="21600">
                <a:moveTo>
                  <a:pt x="0" y="0"/>
                </a:moveTo>
                <a:lnTo>
                  <a:pt x="93572" y="0"/>
                </a:lnTo>
                <a:lnTo>
                  <a:pt x="93572" y="21600"/>
                </a:lnTo>
                <a:lnTo>
                  <a:pt x="0" y="21600"/>
                </a:lnTo>
                <a:close/>
              </a:path>
              <a:path fill="lightenLess" w="93572" h="21600">
                <a:moveTo>
                  <a:pt x="0" y="0"/>
                </a:moveTo>
                <a:lnTo>
                  <a:pt x="93572" y="0"/>
                </a:lnTo>
                <a:lnTo>
                  <a:pt x="92172" y="1400"/>
                </a:lnTo>
                <a:lnTo>
                  <a:pt x="1400" y="1400"/>
                </a:lnTo>
                <a:close/>
              </a:path>
              <a:path fill="darken" w="93572" h="21600">
                <a:moveTo>
                  <a:pt x="93572" y="0"/>
                </a:moveTo>
                <a:lnTo>
                  <a:pt x="93572" y="21600"/>
                </a:lnTo>
                <a:lnTo>
                  <a:pt x="92172" y="20200"/>
                </a:lnTo>
                <a:lnTo>
                  <a:pt x="92172" y="1400"/>
                </a:lnTo>
                <a:close/>
              </a:path>
              <a:path fill="darkenLess" w="93572" h="21600">
                <a:moveTo>
                  <a:pt x="9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72" y="20200"/>
                </a:lnTo>
                <a:close/>
              </a:path>
              <a:path fill="lighten" w="9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Многоэта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5229360"/>
            <a:ext cx="2808360" cy="647640"/>
          </a:xfrm>
          <a:custGeom>
            <a:avLst/>
            <a:gdLst>
              <a:gd name="textAreaLeft" fmla="*/ 41760 w 2808360"/>
              <a:gd name="textAreaRight" fmla="*/ 2766600 w 280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3624" h="21600">
                <a:moveTo>
                  <a:pt x="0" y="0"/>
                </a:moveTo>
                <a:lnTo>
                  <a:pt x="93624" y="0"/>
                </a:lnTo>
                <a:lnTo>
                  <a:pt x="93624" y="21600"/>
                </a:lnTo>
                <a:lnTo>
                  <a:pt x="0" y="21600"/>
                </a:lnTo>
                <a:close/>
              </a:path>
              <a:path fill="lightenLess" w="93624" h="21600">
                <a:moveTo>
                  <a:pt x="0" y="0"/>
                </a:moveTo>
                <a:lnTo>
                  <a:pt x="93624" y="0"/>
                </a:lnTo>
                <a:lnTo>
                  <a:pt x="92224" y="1400"/>
                </a:lnTo>
                <a:lnTo>
                  <a:pt x="1400" y="1400"/>
                </a:lnTo>
                <a:close/>
              </a:path>
              <a:path fill="darken" w="93624" h="21600">
                <a:moveTo>
                  <a:pt x="93624" y="0"/>
                </a:moveTo>
                <a:lnTo>
                  <a:pt x="93624" y="21600"/>
                </a:lnTo>
                <a:lnTo>
                  <a:pt x="92224" y="20200"/>
                </a:lnTo>
                <a:lnTo>
                  <a:pt x="92224" y="1400"/>
                </a:lnTo>
                <a:close/>
              </a:path>
              <a:path fill="darkenLess" w="93624" h="21600">
                <a:moveTo>
                  <a:pt x="9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24" y="20200"/>
                </a:lnTo>
                <a:close/>
              </a:path>
              <a:path fill="lighten" w="9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У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5300640"/>
            <a:ext cx="2808000" cy="647640"/>
          </a:xfrm>
          <a:custGeom>
            <a:avLst/>
            <a:gdLst>
              <a:gd name="textAreaLeft" fmla="*/ 41760 w 2808000"/>
              <a:gd name="textAreaRight" fmla="*/ 2766240 w 28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3612" h="21600">
                <a:moveTo>
                  <a:pt x="0" y="0"/>
                </a:moveTo>
                <a:lnTo>
                  <a:pt x="93612" y="0"/>
                </a:lnTo>
                <a:lnTo>
                  <a:pt x="93612" y="21600"/>
                </a:lnTo>
                <a:lnTo>
                  <a:pt x="0" y="21600"/>
                </a:lnTo>
                <a:close/>
              </a:path>
              <a:path fill="lightenLess" w="93612" h="21600">
                <a:moveTo>
                  <a:pt x="0" y="0"/>
                </a:moveTo>
                <a:lnTo>
                  <a:pt x="93612" y="0"/>
                </a:lnTo>
                <a:lnTo>
                  <a:pt x="92212" y="1400"/>
                </a:lnTo>
                <a:lnTo>
                  <a:pt x="1400" y="1400"/>
                </a:lnTo>
                <a:close/>
              </a:path>
              <a:path fill="darken" w="93612" h="21600">
                <a:moveTo>
                  <a:pt x="93612" y="0"/>
                </a:moveTo>
                <a:lnTo>
                  <a:pt x="93612" y="21600"/>
                </a:lnTo>
                <a:lnTo>
                  <a:pt x="92212" y="20200"/>
                </a:lnTo>
                <a:lnTo>
                  <a:pt x="92212" y="1400"/>
                </a:lnTo>
                <a:close/>
              </a:path>
              <a:path fill="darkenLess" w="93612" h="21600">
                <a:moveTo>
                  <a:pt x="9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12" y="20200"/>
                </a:lnTo>
                <a:close/>
              </a:path>
              <a:path fill="lighten" w="9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8207280" y="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11280" y="5445000"/>
            <a:ext cx="1079280" cy="621000"/>
          </a:xfrm>
          <a:custGeom>
            <a:avLst/>
            <a:gdLst>
              <a:gd name="textAreaLeft" fmla="*/ 39960 w 1079280"/>
              <a:gd name="textAreaRight" fmla="*/ 1039320 w 107928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31" h="21600">
                <a:moveTo>
                  <a:pt x="0" y="0"/>
                </a:moveTo>
                <a:lnTo>
                  <a:pt x="37531" y="0"/>
                </a:lnTo>
                <a:lnTo>
                  <a:pt x="37531" y="21600"/>
                </a:lnTo>
                <a:lnTo>
                  <a:pt x="0" y="21600"/>
                </a:lnTo>
                <a:close/>
              </a:path>
              <a:path fill="lightenLess" w="37531" h="21600">
                <a:moveTo>
                  <a:pt x="0" y="0"/>
                </a:moveTo>
                <a:lnTo>
                  <a:pt x="37531" y="0"/>
                </a:lnTo>
                <a:lnTo>
                  <a:pt x="36131" y="1400"/>
                </a:lnTo>
                <a:lnTo>
                  <a:pt x="1400" y="1400"/>
                </a:lnTo>
                <a:close/>
              </a:path>
              <a:path fill="darken" w="37531" h="21600">
                <a:moveTo>
                  <a:pt x="37531" y="0"/>
                </a:moveTo>
                <a:lnTo>
                  <a:pt x="37531" y="21600"/>
                </a:lnTo>
                <a:lnTo>
                  <a:pt x="36131" y="20200"/>
                </a:lnTo>
                <a:lnTo>
                  <a:pt x="36131" y="1400"/>
                </a:lnTo>
                <a:close/>
              </a:path>
              <a:path fill="darkenLess" w="37531" h="21600">
                <a:moveTo>
                  <a:pt x="37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31" y="20200"/>
                </a:lnTo>
                <a:close/>
              </a:path>
              <a:path fill="lighten" w="37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0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Иг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6360" y="1700280"/>
            <a:ext cx="1079280" cy="115236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152360"/>
              <a:gd name="textAreaBottom" fmla="*/ 1082520 h 1152360"/>
            </a:gdLst>
            <a:ahLst/>
            <a:rect l="textAreaLeft" t="textAreaTop" r="textAreaRight" b="textAreaBottom"/>
            <a:pathLst>
              <a:path w="21600" h="23062">
                <a:moveTo>
                  <a:pt x="0" y="0"/>
                </a:moveTo>
                <a:lnTo>
                  <a:pt x="21600" y="0"/>
                </a:lnTo>
                <a:lnTo>
                  <a:pt x="21600" y="23062"/>
                </a:lnTo>
                <a:lnTo>
                  <a:pt x="0" y="23062"/>
                </a:lnTo>
                <a:close/>
              </a:path>
              <a:path fill="lightenLess" w="21600" h="23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2">
                <a:moveTo>
                  <a:pt x="21600" y="0"/>
                </a:moveTo>
                <a:lnTo>
                  <a:pt x="21600" y="23062"/>
                </a:lnTo>
                <a:lnTo>
                  <a:pt x="20200" y="21662"/>
                </a:lnTo>
                <a:lnTo>
                  <a:pt x="20200" y="1400"/>
                </a:lnTo>
                <a:close/>
              </a:path>
              <a:path fill="darkenLess" w="21600" h="23062">
                <a:moveTo>
                  <a:pt x="21600" y="23062"/>
                </a:moveTo>
                <a:lnTo>
                  <a:pt x="0" y="23062"/>
                </a:lnTo>
                <a:lnTo>
                  <a:pt x="1400" y="21662"/>
                </a:lnTo>
                <a:lnTo>
                  <a:pt x="20200" y="21662"/>
                </a:lnTo>
                <a:close/>
              </a:path>
              <a:path fill="lighten" w="21600" h="23062">
                <a:moveTo>
                  <a:pt x="0" y="23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2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7280" y="2852640"/>
            <a:ext cx="1079280" cy="115272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4005360"/>
            <a:ext cx="1079640" cy="115236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152360"/>
              <a:gd name="textAreaBottom" fmla="*/ 1082520 h 1152360"/>
            </a:gdLst>
            <a:ahLst/>
            <a:rect l="textAreaLeft" t="textAreaTop" r="textAreaRight" b="textAreaBottom"/>
            <a:pathLst>
              <a:path w="21600" h="23054">
                <a:moveTo>
                  <a:pt x="0" y="0"/>
                </a:moveTo>
                <a:lnTo>
                  <a:pt x="21600" y="0"/>
                </a:lnTo>
                <a:lnTo>
                  <a:pt x="21600" y="23054"/>
                </a:lnTo>
                <a:lnTo>
                  <a:pt x="0" y="23054"/>
                </a:lnTo>
                <a:close/>
              </a:path>
              <a:path fill="lightenLess" w="21600" h="230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54">
                <a:moveTo>
                  <a:pt x="21600" y="0"/>
                </a:moveTo>
                <a:lnTo>
                  <a:pt x="21600" y="23054"/>
                </a:lnTo>
                <a:lnTo>
                  <a:pt x="20200" y="21654"/>
                </a:lnTo>
                <a:lnTo>
                  <a:pt x="20200" y="1400"/>
                </a:lnTo>
                <a:close/>
              </a:path>
              <a:path fill="darkenLess" w="21600" h="23054">
                <a:moveTo>
                  <a:pt x="21600" y="23054"/>
                </a:moveTo>
                <a:lnTo>
                  <a:pt x="0" y="23054"/>
                </a:lnTo>
                <a:lnTo>
                  <a:pt x="1400" y="21654"/>
                </a:lnTo>
                <a:lnTo>
                  <a:pt x="20200" y="21654"/>
                </a:lnTo>
                <a:close/>
              </a:path>
              <a:path fill="lighten" w="21600" h="23054">
                <a:moveTo>
                  <a:pt x="0" y="230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5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2360" y="5229360"/>
            <a:ext cx="1079280" cy="115236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152360"/>
              <a:gd name="textAreaBottom" fmla="*/ 1082520 h 1152360"/>
            </a:gdLst>
            <a:ahLst/>
            <a:rect l="textAreaLeft" t="textAreaTop" r="textAreaRight" b="textAreaBottom"/>
            <a:pathLst>
              <a:path w="21600" h="23062">
                <a:moveTo>
                  <a:pt x="0" y="0"/>
                </a:moveTo>
                <a:lnTo>
                  <a:pt x="21600" y="0"/>
                </a:lnTo>
                <a:lnTo>
                  <a:pt x="21600" y="23062"/>
                </a:lnTo>
                <a:lnTo>
                  <a:pt x="0" y="23062"/>
                </a:lnTo>
                <a:close/>
              </a:path>
              <a:path fill="lightenLess" w="21600" h="23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2">
                <a:moveTo>
                  <a:pt x="21600" y="0"/>
                </a:moveTo>
                <a:lnTo>
                  <a:pt x="21600" y="23062"/>
                </a:lnTo>
                <a:lnTo>
                  <a:pt x="20200" y="21662"/>
                </a:lnTo>
                <a:lnTo>
                  <a:pt x="20200" y="1400"/>
                </a:lnTo>
                <a:close/>
              </a:path>
              <a:path fill="darkenLess" w="21600" h="23062">
                <a:moveTo>
                  <a:pt x="21600" y="23062"/>
                </a:moveTo>
                <a:lnTo>
                  <a:pt x="0" y="23062"/>
                </a:lnTo>
                <a:lnTo>
                  <a:pt x="1400" y="21662"/>
                </a:lnTo>
                <a:lnTo>
                  <a:pt x="20200" y="21662"/>
                </a:lnTo>
                <a:close/>
              </a:path>
              <a:path fill="lighten" w="21600" h="23062">
                <a:moveTo>
                  <a:pt x="0" y="23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2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5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7667640" y="3573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ебу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619308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2340000" y="3860640"/>
          <a:ext cx="6119640" cy="208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3860640"/>
                    <a:ext cx="6119640" cy="20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4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7451640" y="5805360"/>
            <a:ext cx="1079640" cy="62100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43" h="21600">
                <a:moveTo>
                  <a:pt x="0" y="0"/>
                </a:moveTo>
                <a:lnTo>
                  <a:pt x="37543" y="0"/>
                </a:lnTo>
                <a:lnTo>
                  <a:pt x="37543" y="21600"/>
                </a:lnTo>
                <a:lnTo>
                  <a:pt x="0" y="21600"/>
                </a:lnTo>
                <a:close/>
              </a:path>
              <a:path fill="lightenLess" w="37543" h="21600">
                <a:moveTo>
                  <a:pt x="0" y="0"/>
                </a:moveTo>
                <a:lnTo>
                  <a:pt x="37543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3" h="21600">
                <a:moveTo>
                  <a:pt x="37543" y="0"/>
                </a:moveTo>
                <a:lnTo>
                  <a:pt x="37543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3" h="21600">
                <a:moveTo>
                  <a:pt x="37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ебу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03640" y="1268280"/>
          <a:ext cx="518472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268280"/>
                    <a:ext cx="518472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340000" y="4076640"/>
          <a:ext cx="6192720" cy="210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076640"/>
                    <a:ext cx="619272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8207280" y="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7451640" y="5805360"/>
            <a:ext cx="1079640" cy="62100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43" h="21600">
                <a:moveTo>
                  <a:pt x="0" y="0"/>
                </a:moveTo>
                <a:lnTo>
                  <a:pt x="37543" y="0"/>
                </a:lnTo>
                <a:lnTo>
                  <a:pt x="37543" y="21600"/>
                </a:lnTo>
                <a:lnTo>
                  <a:pt x="0" y="21600"/>
                </a:lnTo>
                <a:close/>
              </a:path>
              <a:path fill="lightenLess" w="37543" h="21600">
                <a:moveTo>
                  <a:pt x="0" y="0"/>
                </a:moveTo>
                <a:lnTo>
                  <a:pt x="37543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3" h="21600">
                <a:moveTo>
                  <a:pt x="37543" y="0"/>
                </a:moveTo>
                <a:lnTo>
                  <a:pt x="37543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3" h="21600">
                <a:moveTo>
                  <a:pt x="37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ебус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195640" y="1341360"/>
          <a:ext cx="64800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41360"/>
                    <a:ext cx="64800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627280" y="4149720"/>
          <a:ext cx="6191280" cy="18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149720"/>
                    <a:ext cx="6191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>
            <a:hlinkClick r:id="rId5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611280" y="5373720"/>
            <a:ext cx="1079280" cy="620640"/>
          </a:xfrm>
          <a:custGeom>
            <a:avLst/>
            <a:gdLst>
              <a:gd name="textAreaLeft" fmla="*/ 39960 w 1079280"/>
              <a:gd name="textAreaRight" fmla="*/ 1039320 w 107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53" h="21600">
                <a:moveTo>
                  <a:pt x="0" y="0"/>
                </a:moveTo>
                <a:lnTo>
                  <a:pt x="37553" y="0"/>
                </a:lnTo>
                <a:lnTo>
                  <a:pt x="37553" y="21600"/>
                </a:lnTo>
                <a:lnTo>
                  <a:pt x="0" y="21600"/>
                </a:lnTo>
                <a:close/>
              </a:path>
              <a:path fill="lightenLess" w="37553" h="21600">
                <a:moveTo>
                  <a:pt x="0" y="0"/>
                </a:moveTo>
                <a:lnTo>
                  <a:pt x="37553" y="0"/>
                </a:lnTo>
                <a:lnTo>
                  <a:pt x="36153" y="1400"/>
                </a:lnTo>
                <a:lnTo>
                  <a:pt x="1400" y="1400"/>
                </a:lnTo>
                <a:close/>
              </a:path>
              <a:path fill="darken" w="37553" h="21600">
                <a:moveTo>
                  <a:pt x="37553" y="0"/>
                </a:moveTo>
                <a:lnTo>
                  <a:pt x="37553" y="21600"/>
                </a:lnTo>
                <a:lnTo>
                  <a:pt x="36153" y="20200"/>
                </a:lnTo>
                <a:lnTo>
                  <a:pt x="36153" y="1400"/>
                </a:lnTo>
                <a:close/>
              </a:path>
              <a:path fill="darkenLess" w="37553" h="21600">
                <a:moveTo>
                  <a:pt x="37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53" y="20200"/>
                </a:lnTo>
                <a:close/>
              </a:path>
              <a:path fill="lighten" w="37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260280"/>
            <a:ext cx="64008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" action="ppaction://hlinksldjump"/>
              </a:rPr>
              <a:t>Основные по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2" action="ppaction://hlinksldjump"/>
              </a:rPr>
              <a:t>Запуск графического ред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3" action="ppaction://hlinksldjump"/>
              </a:rPr>
              <a:t>Основные элементы окна графического редактора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Comic Sans MS"/>
                <a:hlinkClick r:id="rId4" action="ppaction://hlinksldjump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5" action="ppaction://hlinksldjump"/>
              </a:rPr>
              <a:t>Создание простых графических изображений 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(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6" action="ppaction://hlinksldjump"/>
              </a:rPr>
              <a:t>инструменты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7" action="ppaction://hlinksldjump"/>
              </a:rPr>
              <a:t>упражнения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8" action="ppaction://hlinksldjump"/>
              </a:rPr>
              <a:t>Сохранение и загрузка графических изоб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9" action="ppaction://hlinksldjump"/>
              </a:rPr>
              <a:t>Редактирование графических изображений 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(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0" action="ppaction://hlinksldjump"/>
              </a:rPr>
              <a:t>упражнения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Операции над фрагментами изображений (упраж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Текст в графике (упраж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Построение многоуг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Рисование с помощью кисти и распыл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Использование дуг для рис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Сжатие и растяжение изображений (упраж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Наклон, отражение и поворот изображений (упраж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1" action="ppaction://hlinksldjump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2"/>
              </a:rPr>
              <a:t>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3" action="ppaction://hlinksldjump"/>
              </a:rPr>
              <a:t>Реб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Тренировочный контроль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4" action="ppaction://hlinksldjump"/>
              </a:rPr>
              <a:t>№1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5" action="ppaction://hlinksldjump"/>
              </a:rPr>
              <a:t>№2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6" action="ppaction://hlinksldjump"/>
              </a:rPr>
              <a:t>№3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7" action="ppaction://hlinksldjump"/>
              </a:rPr>
              <a:t>№4</a:t>
            </a:r>
            <a:r>
              <a:rPr b="0" lang="ru-RU" sz="1800" spc="-1" strike="noStrike">
                <a:solidFill>
                  <a:srgbClr val="6a3492"/>
                </a:solidFill>
                <a:latin typeface="Comic Sans MS"/>
              </a:rPr>
              <a:t>,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8" action="ppaction://hlinksldjump"/>
              </a:rPr>
              <a:t>№5 </a:t>
            </a: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19" action="ppaction://hlinksldjump"/>
              </a:rPr>
              <a:t>№6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Comic Sans MS"/>
                <a:hlinkClick r:id="rId20" action="ppaction://hlinksldjump"/>
              </a:rPr>
              <a:t>Контрольный 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</p:cNvPr>
          <p:cNvSpPr/>
          <p:nvPr/>
        </p:nvSpPr>
        <p:spPr>
          <a:xfrm>
            <a:off x="395280" y="6210360"/>
            <a:ext cx="1692360" cy="647640"/>
          </a:xfrm>
          <a:custGeom>
            <a:avLst/>
            <a:gdLst>
              <a:gd name="textAreaLeft" fmla="*/ 41760 w 1692360"/>
              <a:gd name="textAreaRight" fmla="*/ 1650600 w 16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24" h="21600">
                <a:moveTo>
                  <a:pt x="0" y="0"/>
                </a:moveTo>
                <a:lnTo>
                  <a:pt x="56424" y="0"/>
                </a:lnTo>
                <a:lnTo>
                  <a:pt x="56424" y="21600"/>
                </a:lnTo>
                <a:lnTo>
                  <a:pt x="0" y="21600"/>
                </a:lnTo>
                <a:close/>
              </a:path>
              <a:path fill="lightenLess" w="56424" h="21600">
                <a:moveTo>
                  <a:pt x="0" y="0"/>
                </a:moveTo>
                <a:lnTo>
                  <a:pt x="56424" y="0"/>
                </a:lnTo>
                <a:lnTo>
                  <a:pt x="55024" y="1400"/>
                </a:lnTo>
                <a:lnTo>
                  <a:pt x="1400" y="1400"/>
                </a:lnTo>
                <a:close/>
              </a:path>
              <a:path fill="darken" w="56424" h="21600">
                <a:moveTo>
                  <a:pt x="56424" y="0"/>
                </a:moveTo>
                <a:lnTo>
                  <a:pt x="56424" y="21600"/>
                </a:lnTo>
                <a:lnTo>
                  <a:pt x="55024" y="20200"/>
                </a:lnTo>
                <a:lnTo>
                  <a:pt x="55024" y="1400"/>
                </a:lnTo>
                <a:close/>
              </a:path>
              <a:path fill="darkenLess" w="56424" h="21600">
                <a:moveTo>
                  <a:pt x="5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4" y="20200"/>
                </a:lnTo>
                <a:close/>
              </a:path>
              <a:path fill="lighten" w="5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нировочный контрол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Определите, какая информация относится к графическ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чертеж; г) сх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запах; д) рисун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письмо; е) фотограф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Ответьте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Что такое графическое изображ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Что такое компьютерная граф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Для чего предназначен Г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Перечислите порядок действий, необходимый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) Какие основные области рабочего окна ГР 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вест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) Что такое активный цвет и цвет фо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) Для чего предназначена панель инструмент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539640" y="551664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нировочный контрол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ля чего нужно сохранять графические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дис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пишите последовательность действий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хранении графического изображения на ди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Опишите порядок построения отре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пишите порядок построения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ак в ГР нарисовать квадрат и кру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806436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нировочный контрол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чему при загрузке графического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знать имя фай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 помощью каких инструментов можно выпол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дактирование графических изображен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акой инструмент в ГР используется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рашивания изображений? Какая особенность в его применении вам извест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Какие операции работы с диском позво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ять графический редакто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В каких случаях необходимо использ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ю масштабирования изобра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Как отменить последнюю выполненную операц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ть ли для отмены огранич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451640" y="5805360"/>
            <a:ext cx="1079640" cy="62100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43" h="21600">
                <a:moveTo>
                  <a:pt x="0" y="0"/>
                </a:moveTo>
                <a:lnTo>
                  <a:pt x="37543" y="0"/>
                </a:lnTo>
                <a:lnTo>
                  <a:pt x="37543" y="21600"/>
                </a:lnTo>
                <a:lnTo>
                  <a:pt x="0" y="21600"/>
                </a:lnTo>
                <a:close/>
              </a:path>
              <a:path fill="lightenLess" w="37543" h="21600">
                <a:moveTo>
                  <a:pt x="0" y="0"/>
                </a:moveTo>
                <a:lnTo>
                  <a:pt x="37543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3" h="21600">
                <a:moveTo>
                  <a:pt x="37543" y="0"/>
                </a:moveTo>
                <a:lnTo>
                  <a:pt x="37543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3" h="21600">
                <a:moveTo>
                  <a:pt x="37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нировочный контрол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РОВЕНЬ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Определите какие из пунктов были бы справедливы для графического редактор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) позволяют создавать различные графические изображения и делать к ним соответствующ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дпис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) позволяют создавать большие текстовые докумен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) позволяют создавать различные графические изображения, хранить их на диске, вывод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 печатающее устройство, проводить вычисле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г) работать с готовыми рисунк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РОВЕНЬ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Вставьте пропущенное слово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) выбор инструмента заканчивается нажатием на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) если цвет фона и рабочий цвет совпадают, то рисуемая линия будет 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) графический объект храниться на диске под определенным 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г) для рисования окружности и квадрата нужн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жать клавишу 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Что называют пикселем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РОВЕНЬ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Какие инструменты использованы дл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троения представленного рисунка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Чем отличаются операции созд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и редактирования графического изображения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628720" cy="177156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06436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ЕНЬ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Выполните 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1. Выберите цвет фона и рабочи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2. Нарисуйте картинку и раскрасьте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3. Сохраните рисунок в виде файла на дис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ЕНЬ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йте фрагмент картины, продолжая работу над рисунком (используя все изуч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и графического редактора) и сохраните его в виде файла на дис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4937040" cy="1454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148360" y="5589720"/>
            <a:ext cx="2087640" cy="718920"/>
          </a:xfrm>
          <a:custGeom>
            <a:avLst/>
            <a:gdLst>
              <a:gd name="textAreaLeft" fmla="*/ 46440 w 2087640"/>
              <a:gd name="textAreaRight" fmla="*/ 2041200 w 2087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62703" h="21600">
                <a:moveTo>
                  <a:pt x="0" y="0"/>
                </a:moveTo>
                <a:lnTo>
                  <a:pt x="62703" y="0"/>
                </a:lnTo>
                <a:lnTo>
                  <a:pt x="62703" y="21600"/>
                </a:lnTo>
                <a:lnTo>
                  <a:pt x="0" y="21600"/>
                </a:lnTo>
                <a:close/>
              </a:path>
              <a:path fill="lightenLess" w="62703" h="21600">
                <a:moveTo>
                  <a:pt x="0" y="0"/>
                </a:moveTo>
                <a:lnTo>
                  <a:pt x="62703" y="0"/>
                </a:lnTo>
                <a:lnTo>
                  <a:pt x="61303" y="1400"/>
                </a:lnTo>
                <a:lnTo>
                  <a:pt x="1400" y="1400"/>
                </a:lnTo>
                <a:close/>
              </a:path>
              <a:path fill="darken" w="62703" h="21600">
                <a:moveTo>
                  <a:pt x="62703" y="0"/>
                </a:moveTo>
                <a:lnTo>
                  <a:pt x="62703" y="21600"/>
                </a:lnTo>
                <a:lnTo>
                  <a:pt x="61303" y="20200"/>
                </a:lnTo>
                <a:lnTo>
                  <a:pt x="61303" y="1400"/>
                </a:lnTo>
                <a:close/>
              </a:path>
              <a:path fill="darkenLess" w="62703" h="21600">
                <a:moveTo>
                  <a:pt x="62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303" y="20200"/>
                </a:lnTo>
                <a:close/>
              </a:path>
              <a:path fill="lighten" w="62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539640" y="551664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нировочный контрол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то вы понимаете под фрагментом компьютер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два способа выделения фрагмен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ого изображения вам известны? Ч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эти способы друг от дру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речислите основные операции, выполняемые 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ами изобра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 изменить размер фрагмента изобра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аким образом можно переместить фрагмент рису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7451640" y="5805360"/>
            <a:ext cx="1079640" cy="62100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43" h="21600">
                <a:moveTo>
                  <a:pt x="0" y="0"/>
                </a:moveTo>
                <a:lnTo>
                  <a:pt x="37543" y="0"/>
                </a:lnTo>
                <a:lnTo>
                  <a:pt x="37543" y="21600"/>
                </a:lnTo>
                <a:lnTo>
                  <a:pt x="0" y="21600"/>
                </a:lnTo>
                <a:close/>
              </a:path>
              <a:path fill="lightenLess" w="37543" h="21600">
                <a:moveTo>
                  <a:pt x="0" y="0"/>
                </a:moveTo>
                <a:lnTo>
                  <a:pt x="37543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3" h="21600">
                <a:moveTo>
                  <a:pt x="37543" y="0"/>
                </a:moveTo>
                <a:lnTo>
                  <a:pt x="37543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3" h="21600">
                <a:moveTo>
                  <a:pt x="37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нировочный контрол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Какую последовательность действий необходимо выполнить, чтобы ввести текст в Г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аким образом и где выбир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форма для инструмента Ки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) размер распыления для инструмента Распылител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Технология работы с каким инструментом в ГР аналогична технологии работы с инструментом Кис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С какой целью используется инструмент Крива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асскажите о последовательности действий при созд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г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Каким образом растягиваются и сжимаются изображ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Какие два направления растяжения и сжатия рисунка в 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м извест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451640" y="5805360"/>
            <a:ext cx="1079640" cy="62100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43" h="21600">
                <a:moveTo>
                  <a:pt x="0" y="0"/>
                </a:moveTo>
                <a:lnTo>
                  <a:pt x="37543" y="0"/>
                </a:lnTo>
                <a:lnTo>
                  <a:pt x="37543" y="21600"/>
                </a:lnTo>
                <a:lnTo>
                  <a:pt x="0" y="21600"/>
                </a:lnTo>
                <a:close/>
              </a:path>
              <a:path fill="lightenLess" w="37543" h="21600">
                <a:moveTo>
                  <a:pt x="0" y="0"/>
                </a:moveTo>
                <a:lnTo>
                  <a:pt x="37543" y="0"/>
                </a:lnTo>
                <a:lnTo>
                  <a:pt x="36144" y="1400"/>
                </a:lnTo>
                <a:lnTo>
                  <a:pt x="1400" y="1400"/>
                </a:lnTo>
                <a:close/>
              </a:path>
              <a:path fill="darken" w="37543" h="21600">
                <a:moveTo>
                  <a:pt x="37543" y="0"/>
                </a:moveTo>
                <a:lnTo>
                  <a:pt x="37543" y="21600"/>
                </a:lnTo>
                <a:lnTo>
                  <a:pt x="36144" y="20200"/>
                </a:lnTo>
                <a:lnTo>
                  <a:pt x="36144" y="1400"/>
                </a:lnTo>
                <a:close/>
              </a:path>
              <a:path fill="darkenLess" w="37543" h="21600">
                <a:moveTo>
                  <a:pt x="37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44" y="20200"/>
                </a:lnTo>
                <a:close/>
              </a:path>
              <a:path fill="lighten" w="37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нтрольный тес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664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Графическая информация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рисунок, картина, книга; б) надпись на альбоме для рисования; в) информация, представленная в виде рисунка, картины, черт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Графический редактор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прикладная программа, предназначенная для обработки графической информации; б) файл; в) набор красок, карандаш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Что такое редактиров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процесс изменения размеров рисунка; б) добавление деталей в рисунок; в) процесс внесения изменений в графическое изобра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абочий цвет – э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цвет экрана, где выполняется рисунок; б) цвет, который оставляет после себя курсор при рисовании; в) банки с крас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Что относится к инструментам в графическом редакт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линия, ластик, кисть; б) краски, карандаши; в) фломаст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Для чего используется графический редак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для поиска информации; б) для хранения информ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 для создания, редакт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афическ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При помощи инструмента Масштаб мо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записать рисунок на диск; б) изменять размеры рису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8567640" y="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10800" y="5172"/>
                </a:moveTo>
                <a:lnTo>
                  <a:pt x="13376" y="7783"/>
                </a:ln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lnTo>
                  <a:pt x="17763" y="12135"/>
                </a:lnTo>
                <a:lnTo>
                  <a:pt x="16109" y="12135"/>
                </a:lnTo>
                <a:lnTo>
                  <a:pt x="16109" y="19324"/>
                </a:lnTo>
                <a:lnTo>
                  <a:pt x="5491" y="19324"/>
                </a:lnTo>
                <a:lnTo>
                  <a:pt x="5491" y="12135"/>
                </a:lnTo>
                <a:lnTo>
                  <a:pt x="3837" y="12135"/>
                </a:lnTo>
                <a:close/>
              </a:path>
              <a:path fill="darkenLess" w="21600" h="24270">
                <a:moveTo>
                  <a:pt x="13376" y="7783"/>
                </a:moveTo>
                <a:lnTo>
                  <a:pt x="13376" y="6042"/>
                </a:lnTo>
                <a:lnTo>
                  <a:pt x="15152" y="6042"/>
                </a:lnTo>
                <a:lnTo>
                  <a:pt x="15152" y="9559"/>
                </a:lnTo>
                <a:close/>
              </a:path>
              <a:path fill="darkenLess" w="21600" h="24270">
                <a:moveTo>
                  <a:pt x="9877" y="15634"/>
                </a:moveTo>
                <a:lnTo>
                  <a:pt x="11723" y="15634"/>
                </a:lnTo>
                <a:lnTo>
                  <a:pt x="11723" y="19324"/>
                </a:lnTo>
                <a:lnTo>
                  <a:pt x="16109" y="19324"/>
                </a:lnTo>
                <a:lnTo>
                  <a:pt x="16109" y="12135"/>
                </a:lnTo>
                <a:lnTo>
                  <a:pt x="5491" y="12135"/>
                </a:lnTo>
                <a:lnTo>
                  <a:pt x="5491" y="19324"/>
                </a:lnTo>
                <a:lnTo>
                  <a:pt x="9877" y="19324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611280" y="5445000"/>
            <a:ext cx="1079280" cy="621000"/>
          </a:xfrm>
          <a:custGeom>
            <a:avLst/>
            <a:gdLst>
              <a:gd name="textAreaLeft" fmla="*/ 39960 w 1079280"/>
              <a:gd name="textAreaRight" fmla="*/ 1039320 w 107928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31" h="21600">
                <a:moveTo>
                  <a:pt x="0" y="0"/>
                </a:moveTo>
                <a:lnTo>
                  <a:pt x="37531" y="0"/>
                </a:lnTo>
                <a:lnTo>
                  <a:pt x="37531" y="21600"/>
                </a:lnTo>
                <a:lnTo>
                  <a:pt x="0" y="21600"/>
                </a:lnTo>
                <a:close/>
              </a:path>
              <a:path fill="lightenLess" w="37531" h="21600">
                <a:moveTo>
                  <a:pt x="0" y="0"/>
                </a:moveTo>
                <a:lnTo>
                  <a:pt x="37531" y="0"/>
                </a:lnTo>
                <a:lnTo>
                  <a:pt x="36131" y="1400"/>
                </a:lnTo>
                <a:lnTo>
                  <a:pt x="1400" y="1400"/>
                </a:lnTo>
                <a:close/>
              </a:path>
              <a:path fill="darken" w="37531" h="21600">
                <a:moveTo>
                  <a:pt x="37531" y="0"/>
                </a:moveTo>
                <a:lnTo>
                  <a:pt x="37531" y="21600"/>
                </a:lnTo>
                <a:lnTo>
                  <a:pt x="36131" y="20200"/>
                </a:lnTo>
                <a:lnTo>
                  <a:pt x="36131" y="1400"/>
                </a:lnTo>
                <a:close/>
              </a:path>
              <a:path fill="darkenLess" w="37531" h="21600">
                <a:moveTo>
                  <a:pt x="37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31" y="20200"/>
                </a:lnTo>
                <a:close/>
              </a:path>
              <a:path fill="lighten" w="37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843280" y="1628640"/>
            <a:ext cx="54957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и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б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пехов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ьютерной графикой называются изображения, рисунки, схемы, подготовленные с помощью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ческие редакторы – это программы, которые используются для работы с компьютерной граф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ители различных профессий используют компьютерную графику для создания изображений: художники, дизайнеры, архитекторы, инженеры, землеустроители, астроно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308720" y="5661000"/>
            <a:ext cx="1366920" cy="836640"/>
          </a:xfrm>
          <a:custGeom>
            <a:avLst/>
            <a:gdLst>
              <a:gd name="textAreaLeft" fmla="*/ 54000 w 1366920"/>
              <a:gd name="textAreaRight" fmla="*/ 1312920 w 1366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5285" h="21600">
                <a:moveTo>
                  <a:pt x="0" y="0"/>
                </a:moveTo>
                <a:lnTo>
                  <a:pt x="35285" y="0"/>
                </a:lnTo>
                <a:lnTo>
                  <a:pt x="35285" y="21600"/>
                </a:lnTo>
                <a:lnTo>
                  <a:pt x="0" y="21600"/>
                </a:lnTo>
                <a:close/>
              </a:path>
              <a:path fill="lightenLess" w="35285" h="21600">
                <a:moveTo>
                  <a:pt x="0" y="0"/>
                </a:moveTo>
                <a:lnTo>
                  <a:pt x="35285" y="0"/>
                </a:lnTo>
                <a:lnTo>
                  <a:pt x="33885" y="1400"/>
                </a:lnTo>
                <a:lnTo>
                  <a:pt x="1400" y="1400"/>
                </a:lnTo>
                <a:close/>
              </a:path>
              <a:path fill="darken" w="35285" h="21600">
                <a:moveTo>
                  <a:pt x="35285" y="0"/>
                </a:moveTo>
                <a:lnTo>
                  <a:pt x="35285" y="21600"/>
                </a:lnTo>
                <a:lnTo>
                  <a:pt x="33885" y="20200"/>
                </a:lnTo>
                <a:lnTo>
                  <a:pt x="33885" y="1400"/>
                </a:lnTo>
                <a:close/>
              </a:path>
              <a:path fill="darkenLess" w="35285" h="21600">
                <a:moveTo>
                  <a:pt x="35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5" y="20200"/>
                </a:lnTo>
                <a:close/>
              </a:path>
              <a:path fill="lighten" w="35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Запустить графический редактор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Paint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можно,  используя кнопку 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Пуск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28800" y="2066760"/>
          <a:ext cx="58197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0" y="2066760"/>
                    <a:ext cx="58197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308720" y="5661000"/>
            <a:ext cx="1366920" cy="836640"/>
          </a:xfrm>
          <a:custGeom>
            <a:avLst/>
            <a:gdLst>
              <a:gd name="textAreaLeft" fmla="*/ 54000 w 1366920"/>
              <a:gd name="textAreaRight" fmla="*/ 1312920 w 1366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5285" h="21600">
                <a:moveTo>
                  <a:pt x="0" y="0"/>
                </a:moveTo>
                <a:lnTo>
                  <a:pt x="35285" y="0"/>
                </a:lnTo>
                <a:lnTo>
                  <a:pt x="35285" y="21600"/>
                </a:lnTo>
                <a:lnTo>
                  <a:pt x="0" y="21600"/>
                </a:lnTo>
                <a:close/>
              </a:path>
              <a:path fill="lightenLess" w="35285" h="21600">
                <a:moveTo>
                  <a:pt x="0" y="0"/>
                </a:moveTo>
                <a:lnTo>
                  <a:pt x="35285" y="0"/>
                </a:lnTo>
                <a:lnTo>
                  <a:pt x="33885" y="1400"/>
                </a:lnTo>
                <a:lnTo>
                  <a:pt x="1400" y="1400"/>
                </a:lnTo>
                <a:close/>
              </a:path>
              <a:path fill="darken" w="35285" h="21600">
                <a:moveTo>
                  <a:pt x="35285" y="0"/>
                </a:moveTo>
                <a:lnTo>
                  <a:pt x="35285" y="21600"/>
                </a:lnTo>
                <a:lnTo>
                  <a:pt x="33885" y="20200"/>
                </a:lnTo>
                <a:lnTo>
                  <a:pt x="33885" y="1400"/>
                </a:lnTo>
                <a:close/>
              </a:path>
              <a:path fill="darkenLess" w="35285" h="21600">
                <a:moveTo>
                  <a:pt x="35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5" y="20200"/>
                </a:lnTo>
                <a:close/>
              </a:path>
              <a:path fill="lighten" w="35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Основные элементы окна графического редактора 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Paint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0920" y="1052640"/>
            <a:ext cx="8424720" cy="5545080"/>
            <a:chOff x="250920" y="1052640"/>
            <a:chExt cx="8424720" cy="5545080"/>
          </a:xfrm>
        </p:grpSpPr>
        <p:graphicFrame>
          <p:nvGraphicFramePr>
            <p:cNvPr id="101" name=""/>
            <p:cNvGraphicFramePr/>
            <p:nvPr/>
          </p:nvGraphicFramePr>
          <p:xfrm>
            <a:off x="3059280" y="1844640"/>
            <a:ext cx="5295600" cy="403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1844640"/>
                      <a:ext cx="529560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4427640" y="1125360"/>
              <a:ext cx="1873080" cy="719280"/>
            </a:xfrm>
            <a:prstGeom prst="wedgeEllipseCallout">
              <a:avLst>
                <a:gd name="adj1" fmla="val -48305"/>
                <a:gd name="adj2" fmla="val 94148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рока мен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0920" y="1052640"/>
              <a:ext cx="2016360" cy="720720"/>
            </a:xfrm>
            <a:prstGeom prst="wedgeEllipseCallout">
              <a:avLst>
                <a:gd name="adj1" fmla="val 9842"/>
                <a:gd name="adj2" fmla="val 77972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головок ок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1916280"/>
              <a:ext cx="2522520" cy="792000"/>
            </a:xfrm>
            <a:prstGeom prst="wedgeEllipseCallout">
              <a:avLst>
                <a:gd name="adj1" fmla="val 72467"/>
                <a:gd name="adj2" fmla="val 93685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нель инструм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920" y="3141720"/>
              <a:ext cx="2522520" cy="1079280"/>
            </a:xfrm>
            <a:prstGeom prst="wedgeEllipseCallout">
              <a:avLst>
                <a:gd name="adj1" fmla="val 71273"/>
                <a:gd name="adj2" fmla="val 95000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нель настройки инструм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5280" y="4365720"/>
              <a:ext cx="2087640" cy="1150920"/>
            </a:xfrm>
            <a:prstGeom prst="wedgeEllipseCallout">
              <a:avLst>
                <a:gd name="adj1" fmla="val 81861"/>
                <a:gd name="adj2" fmla="val 32620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ктивный цвет рис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1280" y="5661000"/>
              <a:ext cx="2087640" cy="720720"/>
            </a:xfrm>
            <a:prstGeom prst="wedgeEllipseCallout">
              <a:avLst>
                <a:gd name="adj1" fmla="val 78439"/>
                <a:gd name="adj2" fmla="val -81939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вет ф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19640" y="5877000"/>
              <a:ext cx="2087280" cy="720720"/>
            </a:xfrm>
            <a:prstGeom prst="wedgeEllipseCallout">
              <a:avLst>
                <a:gd name="adj1" fmla="val -7490"/>
                <a:gd name="adj2" fmla="val -124226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литра цве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5805360"/>
              <a:ext cx="2017800" cy="719280"/>
            </a:xfrm>
            <a:prstGeom prst="wedgeEllipseCallout">
              <a:avLst>
                <a:gd name="adj1" fmla="val -70930"/>
                <a:gd name="adj2" fmla="val -63245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рока состоя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88000" y="2637000"/>
              <a:ext cx="2087640" cy="720720"/>
            </a:xfrm>
            <a:prstGeom prst="wedgeEllipseCallout">
              <a:avLst>
                <a:gd name="adj1" fmla="val -70305"/>
                <a:gd name="adj2" fmla="val 278856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вет ф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88000" y="2637000"/>
              <a:ext cx="2087640" cy="720720"/>
            </a:xfrm>
            <a:prstGeom prst="wedgeEllipseCallout">
              <a:avLst>
                <a:gd name="adj1" fmla="val 33347"/>
                <a:gd name="adj2" fmla="val 158148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осы прокру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40360" y="2565360"/>
              <a:ext cx="2087280" cy="1079640"/>
            </a:xfrm>
            <a:prstGeom prst="wedgeEllipseCallout">
              <a:avLst>
                <a:gd name="adj1" fmla="val -7949"/>
                <a:gd name="adj2" fmla="val 94263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бочая область рис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064360" y="649764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оздание простых графических изображени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Monotype Corsiva"/>
              </a:rPr>
              <a:t>Создание первых рисунков лучше всего начинать с использования самых простых инструментов. Сначала необходимо установить активный цвет рисования и цвет фона. Затем выбирается нужный инструмент, а потом указатель мыши для рисования переносится на хол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207280" y="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308720" y="5661000"/>
            <a:ext cx="1366920" cy="836640"/>
          </a:xfrm>
          <a:custGeom>
            <a:avLst/>
            <a:gdLst>
              <a:gd name="textAreaLeft" fmla="*/ 54000 w 1366920"/>
              <a:gd name="textAreaRight" fmla="*/ 1312920 w 1366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5285" h="21600">
                <a:moveTo>
                  <a:pt x="0" y="0"/>
                </a:moveTo>
                <a:lnTo>
                  <a:pt x="35285" y="0"/>
                </a:lnTo>
                <a:lnTo>
                  <a:pt x="35285" y="21600"/>
                </a:lnTo>
                <a:lnTo>
                  <a:pt x="0" y="21600"/>
                </a:lnTo>
                <a:close/>
              </a:path>
              <a:path fill="lightenLess" w="35285" h="21600">
                <a:moveTo>
                  <a:pt x="0" y="0"/>
                </a:moveTo>
                <a:lnTo>
                  <a:pt x="35285" y="0"/>
                </a:lnTo>
                <a:lnTo>
                  <a:pt x="33885" y="1400"/>
                </a:lnTo>
                <a:lnTo>
                  <a:pt x="1400" y="1400"/>
                </a:lnTo>
                <a:close/>
              </a:path>
              <a:path fill="darken" w="35285" h="21600">
                <a:moveTo>
                  <a:pt x="35285" y="0"/>
                </a:moveTo>
                <a:lnTo>
                  <a:pt x="35285" y="21600"/>
                </a:lnTo>
                <a:lnTo>
                  <a:pt x="33885" y="20200"/>
                </a:lnTo>
                <a:lnTo>
                  <a:pt x="33885" y="1400"/>
                </a:lnTo>
                <a:close/>
              </a:path>
              <a:path fill="darkenLess" w="35285" h="21600">
                <a:moveTo>
                  <a:pt x="35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5" y="20200"/>
                </a:lnTo>
                <a:close/>
              </a:path>
              <a:path fill="lighten" w="35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сновные инструмент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96000" y="1414440"/>
          <a:ext cx="64764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414440"/>
                    <a:ext cx="647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700360" y="3068640"/>
          <a:ext cx="57636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068640"/>
                    <a:ext cx="5763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700360" y="4581360"/>
          <a:ext cx="638280" cy="6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581360"/>
                    <a:ext cx="638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700360" y="3860640"/>
          <a:ext cx="647640" cy="57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860640"/>
                    <a:ext cx="647640" cy="5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700360" y="5373720"/>
          <a:ext cx="647640" cy="54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5373720"/>
                    <a:ext cx="6476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627280" y="1413000"/>
          <a:ext cx="625680" cy="64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27280" y="1413000"/>
                    <a:ext cx="6256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7280" y="2349360"/>
          <a:ext cx="649440" cy="54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27280" y="2349360"/>
                    <a:ext cx="649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35280" y="1484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42100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Ла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3141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393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Элли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465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5516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Скруглённый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14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Зали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796000" y="2276640"/>
          <a:ext cx="541440" cy="628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6000" y="2276640"/>
                    <a:ext cx="5414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588000" y="2349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Ки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7" action="ppaction://hlinksldjump"/>
          </p:cNvPr>
          <p:cNvSpPr/>
          <p:nvPr/>
        </p:nvSpPr>
        <p:spPr>
          <a:xfrm>
            <a:off x="781200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136000" y="6237360"/>
            <a:ext cx="1008000" cy="620640"/>
          </a:xfrm>
          <a:custGeom>
            <a:avLst/>
            <a:gdLst>
              <a:gd name="textAreaLeft" fmla="*/ 39960 w 1008000"/>
              <a:gd name="textAreaRight" fmla="*/ 968040 w 100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673" y="1400"/>
                </a:lnTo>
                <a:lnTo>
                  <a:pt x="1400" y="140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673" y="20200"/>
                </a:lnTo>
                <a:lnTo>
                  <a:pt x="33673" y="140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3" y="2020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8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пражн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1484280"/>
            <a:ext cx="2592360" cy="57456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97410" h="21600">
                <a:moveTo>
                  <a:pt x="0" y="0"/>
                </a:moveTo>
                <a:lnTo>
                  <a:pt x="97410" y="0"/>
                </a:lnTo>
                <a:lnTo>
                  <a:pt x="97410" y="21600"/>
                </a:lnTo>
                <a:lnTo>
                  <a:pt x="0" y="21600"/>
                </a:lnTo>
                <a:close/>
              </a:path>
              <a:path fill="lightenLess" w="97410" h="21600">
                <a:moveTo>
                  <a:pt x="0" y="0"/>
                </a:moveTo>
                <a:lnTo>
                  <a:pt x="97410" y="0"/>
                </a:lnTo>
                <a:lnTo>
                  <a:pt x="96010" y="1400"/>
                </a:lnTo>
                <a:lnTo>
                  <a:pt x="1400" y="1400"/>
                </a:lnTo>
                <a:close/>
              </a:path>
              <a:path fill="darken" w="97410" h="21600">
                <a:moveTo>
                  <a:pt x="97410" y="0"/>
                </a:moveTo>
                <a:lnTo>
                  <a:pt x="97410" y="21600"/>
                </a:lnTo>
                <a:lnTo>
                  <a:pt x="96010" y="20200"/>
                </a:lnTo>
                <a:lnTo>
                  <a:pt x="96010" y="1400"/>
                </a:lnTo>
                <a:close/>
              </a:path>
              <a:path fill="darkenLess" w="97410" h="21600">
                <a:moveTo>
                  <a:pt x="97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010" y="20200"/>
                </a:lnTo>
                <a:close/>
              </a:path>
              <a:path fill="lighten" w="97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Зали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1484280"/>
            <a:ext cx="2592360" cy="57456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97410" h="21600">
                <a:moveTo>
                  <a:pt x="0" y="0"/>
                </a:moveTo>
                <a:lnTo>
                  <a:pt x="97410" y="0"/>
                </a:lnTo>
                <a:lnTo>
                  <a:pt x="97410" y="21600"/>
                </a:lnTo>
                <a:lnTo>
                  <a:pt x="0" y="21600"/>
                </a:lnTo>
                <a:close/>
              </a:path>
              <a:path fill="lightenLess" w="97410" h="21600">
                <a:moveTo>
                  <a:pt x="0" y="0"/>
                </a:moveTo>
                <a:lnTo>
                  <a:pt x="97410" y="0"/>
                </a:lnTo>
                <a:lnTo>
                  <a:pt x="96010" y="1400"/>
                </a:lnTo>
                <a:lnTo>
                  <a:pt x="1400" y="1400"/>
                </a:lnTo>
                <a:close/>
              </a:path>
              <a:path fill="darken" w="97410" h="21600">
                <a:moveTo>
                  <a:pt x="97410" y="0"/>
                </a:moveTo>
                <a:lnTo>
                  <a:pt x="97410" y="21600"/>
                </a:lnTo>
                <a:lnTo>
                  <a:pt x="96010" y="20200"/>
                </a:lnTo>
                <a:lnTo>
                  <a:pt x="96010" y="1400"/>
                </a:lnTo>
                <a:close/>
              </a:path>
              <a:path fill="darkenLess" w="97410" h="21600">
                <a:moveTo>
                  <a:pt x="97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010" y="20200"/>
                </a:lnTo>
                <a:close/>
              </a:path>
              <a:path fill="lighten" w="97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С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492280"/>
            <a:ext cx="2592360" cy="57492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97349" h="21600">
                <a:moveTo>
                  <a:pt x="0" y="0"/>
                </a:moveTo>
                <a:lnTo>
                  <a:pt x="97349" y="0"/>
                </a:lnTo>
                <a:lnTo>
                  <a:pt x="97349" y="21600"/>
                </a:lnTo>
                <a:lnTo>
                  <a:pt x="0" y="21600"/>
                </a:lnTo>
                <a:close/>
              </a:path>
              <a:path fill="lightenLess" w="97349" h="21600">
                <a:moveTo>
                  <a:pt x="0" y="0"/>
                </a:moveTo>
                <a:lnTo>
                  <a:pt x="97349" y="0"/>
                </a:lnTo>
                <a:lnTo>
                  <a:pt x="95949" y="1400"/>
                </a:lnTo>
                <a:lnTo>
                  <a:pt x="1400" y="1400"/>
                </a:lnTo>
                <a:close/>
              </a:path>
              <a:path fill="darken" w="97349" h="21600">
                <a:moveTo>
                  <a:pt x="97349" y="0"/>
                </a:moveTo>
                <a:lnTo>
                  <a:pt x="97349" y="21600"/>
                </a:lnTo>
                <a:lnTo>
                  <a:pt x="95949" y="20200"/>
                </a:lnTo>
                <a:lnTo>
                  <a:pt x="95949" y="1400"/>
                </a:lnTo>
                <a:close/>
              </a:path>
              <a:path fill="darkenLess" w="97349" h="21600">
                <a:moveTo>
                  <a:pt x="97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49" y="20200"/>
                </a:lnTo>
                <a:close/>
              </a:path>
              <a:path fill="lighten" w="97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Кот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3716280"/>
            <a:ext cx="2592360" cy="57456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97410" h="21600">
                <a:moveTo>
                  <a:pt x="0" y="0"/>
                </a:moveTo>
                <a:lnTo>
                  <a:pt x="97410" y="0"/>
                </a:lnTo>
                <a:lnTo>
                  <a:pt x="97410" y="21600"/>
                </a:lnTo>
                <a:lnTo>
                  <a:pt x="0" y="21600"/>
                </a:lnTo>
                <a:close/>
              </a:path>
              <a:path fill="lightenLess" w="97410" h="21600">
                <a:moveTo>
                  <a:pt x="0" y="0"/>
                </a:moveTo>
                <a:lnTo>
                  <a:pt x="97410" y="0"/>
                </a:lnTo>
                <a:lnTo>
                  <a:pt x="96010" y="1400"/>
                </a:lnTo>
                <a:lnTo>
                  <a:pt x="1400" y="1400"/>
                </a:lnTo>
                <a:close/>
              </a:path>
              <a:path fill="darken" w="97410" h="21600">
                <a:moveTo>
                  <a:pt x="97410" y="0"/>
                </a:moveTo>
                <a:lnTo>
                  <a:pt x="97410" y="21600"/>
                </a:lnTo>
                <a:lnTo>
                  <a:pt x="96010" y="20200"/>
                </a:lnTo>
                <a:lnTo>
                  <a:pt x="96010" y="1400"/>
                </a:lnTo>
                <a:close/>
              </a:path>
              <a:path fill="darkenLess" w="97410" h="21600">
                <a:moveTo>
                  <a:pt x="97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010" y="20200"/>
                </a:lnTo>
                <a:close/>
              </a:path>
              <a:path fill="lighten" w="97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Голу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797360"/>
            <a:ext cx="2592360" cy="57492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97349" h="21600">
                <a:moveTo>
                  <a:pt x="0" y="0"/>
                </a:moveTo>
                <a:lnTo>
                  <a:pt x="97349" y="0"/>
                </a:lnTo>
                <a:lnTo>
                  <a:pt x="97349" y="21600"/>
                </a:lnTo>
                <a:lnTo>
                  <a:pt x="0" y="21600"/>
                </a:lnTo>
                <a:close/>
              </a:path>
              <a:path fill="lightenLess" w="97349" h="21600">
                <a:moveTo>
                  <a:pt x="0" y="0"/>
                </a:moveTo>
                <a:lnTo>
                  <a:pt x="97349" y="0"/>
                </a:lnTo>
                <a:lnTo>
                  <a:pt x="95949" y="1400"/>
                </a:lnTo>
                <a:lnTo>
                  <a:pt x="1400" y="1400"/>
                </a:lnTo>
                <a:close/>
              </a:path>
              <a:path fill="darken" w="97349" h="21600">
                <a:moveTo>
                  <a:pt x="97349" y="0"/>
                </a:moveTo>
                <a:lnTo>
                  <a:pt x="97349" y="21600"/>
                </a:lnTo>
                <a:lnTo>
                  <a:pt x="95949" y="20200"/>
                </a:lnTo>
                <a:lnTo>
                  <a:pt x="95949" y="1400"/>
                </a:lnTo>
                <a:close/>
              </a:path>
              <a:path fill="darkenLess" w="97349" h="21600">
                <a:moveTo>
                  <a:pt x="97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49" y="20200"/>
                </a:lnTo>
                <a:close/>
              </a:path>
              <a:path fill="lighten" w="97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Груз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2565360"/>
            <a:ext cx="2592360" cy="57456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97410" h="21600">
                <a:moveTo>
                  <a:pt x="0" y="0"/>
                </a:moveTo>
                <a:lnTo>
                  <a:pt x="97410" y="0"/>
                </a:lnTo>
                <a:lnTo>
                  <a:pt x="97410" y="21600"/>
                </a:lnTo>
                <a:lnTo>
                  <a:pt x="0" y="21600"/>
                </a:lnTo>
                <a:close/>
              </a:path>
              <a:path fill="lightenLess" w="97410" h="21600">
                <a:moveTo>
                  <a:pt x="0" y="0"/>
                </a:moveTo>
                <a:lnTo>
                  <a:pt x="97410" y="0"/>
                </a:lnTo>
                <a:lnTo>
                  <a:pt x="96010" y="1400"/>
                </a:lnTo>
                <a:lnTo>
                  <a:pt x="1400" y="1400"/>
                </a:lnTo>
                <a:close/>
              </a:path>
              <a:path fill="darken" w="97410" h="21600">
                <a:moveTo>
                  <a:pt x="97410" y="0"/>
                </a:moveTo>
                <a:lnTo>
                  <a:pt x="97410" y="21600"/>
                </a:lnTo>
                <a:lnTo>
                  <a:pt x="96010" y="20200"/>
                </a:lnTo>
                <a:lnTo>
                  <a:pt x="96010" y="1400"/>
                </a:lnTo>
                <a:close/>
              </a:path>
              <a:path fill="darkenLess" w="97410" h="21600">
                <a:moveTo>
                  <a:pt x="97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010" y="20200"/>
                </a:lnTo>
                <a:close/>
              </a:path>
              <a:path fill="lighten" w="97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Игр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3716280"/>
            <a:ext cx="2592360" cy="57456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97410" h="21600">
                <a:moveTo>
                  <a:pt x="0" y="0"/>
                </a:moveTo>
                <a:lnTo>
                  <a:pt x="97410" y="0"/>
                </a:lnTo>
                <a:lnTo>
                  <a:pt x="97410" y="21600"/>
                </a:lnTo>
                <a:lnTo>
                  <a:pt x="0" y="21600"/>
                </a:lnTo>
                <a:close/>
              </a:path>
              <a:path fill="lightenLess" w="97410" h="21600">
                <a:moveTo>
                  <a:pt x="0" y="0"/>
                </a:moveTo>
                <a:lnTo>
                  <a:pt x="97410" y="0"/>
                </a:lnTo>
                <a:lnTo>
                  <a:pt x="96010" y="1400"/>
                </a:lnTo>
                <a:lnTo>
                  <a:pt x="1400" y="1400"/>
                </a:lnTo>
                <a:close/>
              </a:path>
              <a:path fill="darken" w="97410" h="21600">
                <a:moveTo>
                  <a:pt x="97410" y="0"/>
                </a:moveTo>
                <a:lnTo>
                  <a:pt x="97410" y="21600"/>
                </a:lnTo>
                <a:lnTo>
                  <a:pt x="96010" y="20200"/>
                </a:lnTo>
                <a:lnTo>
                  <a:pt x="96010" y="1400"/>
                </a:lnTo>
                <a:close/>
              </a:path>
              <a:path fill="darkenLess" w="97410" h="21600">
                <a:moveTo>
                  <a:pt x="97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010" y="20200"/>
                </a:lnTo>
                <a:close/>
              </a:path>
              <a:path fill="lighten" w="97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Штрих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4797360"/>
            <a:ext cx="2592360" cy="57492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97349" h="21600">
                <a:moveTo>
                  <a:pt x="0" y="0"/>
                </a:moveTo>
                <a:lnTo>
                  <a:pt x="97349" y="0"/>
                </a:lnTo>
                <a:lnTo>
                  <a:pt x="97349" y="21600"/>
                </a:lnTo>
                <a:lnTo>
                  <a:pt x="0" y="21600"/>
                </a:lnTo>
                <a:close/>
              </a:path>
              <a:path fill="lightenLess" w="97349" h="21600">
                <a:moveTo>
                  <a:pt x="0" y="0"/>
                </a:moveTo>
                <a:lnTo>
                  <a:pt x="97349" y="0"/>
                </a:lnTo>
                <a:lnTo>
                  <a:pt x="95949" y="1400"/>
                </a:lnTo>
                <a:lnTo>
                  <a:pt x="1400" y="1400"/>
                </a:lnTo>
                <a:close/>
              </a:path>
              <a:path fill="darken" w="97349" h="21600">
                <a:moveTo>
                  <a:pt x="97349" y="0"/>
                </a:moveTo>
                <a:lnTo>
                  <a:pt x="97349" y="21600"/>
                </a:lnTo>
                <a:lnTo>
                  <a:pt x="95949" y="20200"/>
                </a:lnTo>
                <a:lnTo>
                  <a:pt x="95949" y="1400"/>
                </a:lnTo>
                <a:close/>
              </a:path>
              <a:path fill="darkenLess" w="97349" h="21600">
                <a:moveTo>
                  <a:pt x="97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49" y="20200"/>
                </a:lnTo>
                <a:close/>
              </a:path>
              <a:path fill="lighten" w="97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Масштаб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5805360"/>
            <a:ext cx="2592360" cy="57492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97349" h="21600">
                <a:moveTo>
                  <a:pt x="0" y="0"/>
                </a:moveTo>
                <a:lnTo>
                  <a:pt x="97349" y="0"/>
                </a:lnTo>
                <a:lnTo>
                  <a:pt x="97349" y="21600"/>
                </a:lnTo>
                <a:lnTo>
                  <a:pt x="0" y="21600"/>
                </a:lnTo>
                <a:close/>
              </a:path>
              <a:path fill="lightenLess" w="97349" h="21600">
                <a:moveTo>
                  <a:pt x="0" y="0"/>
                </a:moveTo>
                <a:lnTo>
                  <a:pt x="97349" y="0"/>
                </a:lnTo>
                <a:lnTo>
                  <a:pt x="95949" y="1400"/>
                </a:lnTo>
                <a:lnTo>
                  <a:pt x="1400" y="1400"/>
                </a:lnTo>
                <a:close/>
              </a:path>
              <a:path fill="darken" w="97349" h="21600">
                <a:moveTo>
                  <a:pt x="97349" y="0"/>
                </a:moveTo>
                <a:lnTo>
                  <a:pt x="97349" y="21600"/>
                </a:lnTo>
                <a:lnTo>
                  <a:pt x="95949" y="20200"/>
                </a:lnTo>
                <a:lnTo>
                  <a:pt x="95949" y="1400"/>
                </a:lnTo>
                <a:close/>
              </a:path>
              <a:path fill="darkenLess" w="97349" h="21600">
                <a:moveTo>
                  <a:pt x="97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949" y="20200"/>
                </a:lnTo>
                <a:close/>
              </a:path>
              <a:path fill="lighten" w="97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9"/>
              </a:rPr>
              <a:t>Кос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5877000"/>
            <a:ext cx="2592360" cy="574560"/>
          </a:xfrm>
          <a:custGeom>
            <a:avLst/>
            <a:gdLst>
              <a:gd name="textAreaLeft" fmla="*/ 37080 w 2592360"/>
              <a:gd name="textAreaRight" fmla="*/ 2555280 w 25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97410" h="21600">
                <a:moveTo>
                  <a:pt x="0" y="0"/>
                </a:moveTo>
                <a:lnTo>
                  <a:pt x="97410" y="0"/>
                </a:lnTo>
                <a:lnTo>
                  <a:pt x="97410" y="21600"/>
                </a:lnTo>
                <a:lnTo>
                  <a:pt x="0" y="21600"/>
                </a:lnTo>
                <a:close/>
              </a:path>
              <a:path fill="lightenLess" w="97410" h="21600">
                <a:moveTo>
                  <a:pt x="0" y="0"/>
                </a:moveTo>
                <a:lnTo>
                  <a:pt x="97410" y="0"/>
                </a:lnTo>
                <a:lnTo>
                  <a:pt x="96010" y="1400"/>
                </a:lnTo>
                <a:lnTo>
                  <a:pt x="1400" y="1400"/>
                </a:lnTo>
                <a:close/>
              </a:path>
              <a:path fill="darken" w="97410" h="21600">
                <a:moveTo>
                  <a:pt x="97410" y="0"/>
                </a:moveTo>
                <a:lnTo>
                  <a:pt x="97410" y="21600"/>
                </a:lnTo>
                <a:lnTo>
                  <a:pt x="96010" y="20200"/>
                </a:lnTo>
                <a:lnTo>
                  <a:pt x="96010" y="1400"/>
                </a:lnTo>
                <a:close/>
              </a:path>
              <a:path fill="darkenLess" w="97410" h="21600">
                <a:moveTo>
                  <a:pt x="97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010" y="20200"/>
                </a:lnTo>
                <a:close/>
              </a:path>
              <a:path fill="lighten" w="97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0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1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368360" cy="476280"/>
          </a:xfrm>
          <a:custGeom>
            <a:avLst/>
            <a:gdLst>
              <a:gd name="textAreaLeft" fmla="*/ 30600 w 1368360"/>
              <a:gd name="textAreaRight" fmla="*/ 1337760 w 1368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2027" h="21600">
                <a:moveTo>
                  <a:pt x="0" y="0"/>
                </a:moveTo>
                <a:lnTo>
                  <a:pt x="62027" y="0"/>
                </a:lnTo>
                <a:lnTo>
                  <a:pt x="62027" y="21600"/>
                </a:lnTo>
                <a:lnTo>
                  <a:pt x="0" y="21600"/>
                </a:lnTo>
                <a:close/>
              </a:path>
              <a:path fill="lightenLess" w="62027" h="21600">
                <a:moveTo>
                  <a:pt x="0" y="0"/>
                </a:moveTo>
                <a:lnTo>
                  <a:pt x="62027" y="0"/>
                </a:lnTo>
                <a:lnTo>
                  <a:pt x="60627" y="1400"/>
                </a:lnTo>
                <a:lnTo>
                  <a:pt x="1400" y="1400"/>
                </a:lnTo>
                <a:close/>
              </a:path>
              <a:path fill="darken" w="62027" h="21600">
                <a:moveTo>
                  <a:pt x="62027" y="0"/>
                </a:moveTo>
                <a:lnTo>
                  <a:pt x="62027" y="21600"/>
                </a:lnTo>
                <a:lnTo>
                  <a:pt x="60627" y="20200"/>
                </a:lnTo>
                <a:lnTo>
                  <a:pt x="60627" y="1400"/>
                </a:lnTo>
                <a:close/>
              </a:path>
              <a:path fill="darkenLess" w="62027" h="21600">
                <a:moveTo>
                  <a:pt x="62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27" y="20200"/>
                </a:lnTo>
                <a:close/>
              </a:path>
              <a:path fill="lighten" w="62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3492"/>
                </a:solidFill>
                <a:latin typeface="Comic Sans MS"/>
              </a:rPr>
              <a:t>Сохранение и загрузка графических изображени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10920" y="1628280"/>
            <a:ext cx="6094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Monotype Corsiva"/>
              </a:rPr>
              <a:t>Правило сохранения графических изображен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59280" y="3357720"/>
          <a:ext cx="301932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357720"/>
                    <a:ext cx="301932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56000" y="2781360"/>
            <a:ext cx="352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хранить ка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4797360"/>
            <a:ext cx="36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рать пап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32000" y="5300640"/>
          <a:ext cx="284796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5300640"/>
                    <a:ext cx="28479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443640" y="2852640"/>
            <a:ext cx="22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вести 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948360" y="3860640"/>
          <a:ext cx="1695600" cy="67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3860640"/>
                    <a:ext cx="16956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516720" y="4797360"/>
            <a:ext cx="21589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164360" y="5734080"/>
          <a:ext cx="1514520" cy="70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4360" y="5734080"/>
                    <a:ext cx="1514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>
            <a:hlinkClick r:id="rId9" action="ppaction://hlinksldjump"/>
          </p:cNvPr>
          <p:cNvSpPr/>
          <p:nvPr/>
        </p:nvSpPr>
        <p:spPr>
          <a:xfrm>
            <a:off x="7667640" y="404640"/>
            <a:ext cx="936720" cy="863640"/>
          </a:xfrm>
          <a:custGeom>
            <a:avLst/>
            <a:gdLst>
              <a:gd name="textAreaLeft" fmla="*/ 55800 w 936720"/>
              <a:gd name="textAreaRight" fmla="*/ 880920 w 936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27" h="21600">
                <a:moveTo>
                  <a:pt x="0" y="0"/>
                </a:moveTo>
                <a:lnTo>
                  <a:pt x="23427" y="0"/>
                </a:lnTo>
                <a:lnTo>
                  <a:pt x="23427" y="21600"/>
                </a:lnTo>
                <a:lnTo>
                  <a:pt x="0" y="21600"/>
                </a:lnTo>
                <a:close/>
              </a:path>
              <a:path fill="lightenLess" w="23427" h="21600">
                <a:moveTo>
                  <a:pt x="0" y="0"/>
                </a:moveTo>
                <a:lnTo>
                  <a:pt x="23427" y="0"/>
                </a:lnTo>
                <a:lnTo>
                  <a:pt x="22027" y="1400"/>
                </a:lnTo>
                <a:lnTo>
                  <a:pt x="1400" y="1400"/>
                </a:lnTo>
                <a:close/>
              </a:path>
              <a:path fill="darken" w="23427" h="21600">
                <a:moveTo>
                  <a:pt x="23427" y="0"/>
                </a:moveTo>
                <a:lnTo>
                  <a:pt x="23427" y="21600"/>
                </a:lnTo>
                <a:lnTo>
                  <a:pt x="22027" y="20200"/>
                </a:lnTo>
                <a:lnTo>
                  <a:pt x="22027" y="1400"/>
                </a:lnTo>
                <a:close/>
              </a:path>
              <a:path fill="darkenLess" w="23427" h="21600">
                <a:moveTo>
                  <a:pt x="2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7" y="20200"/>
                </a:lnTo>
                <a:close/>
              </a:path>
              <a:path fill="lighten" w="2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7" h="21600">
                <a:moveTo>
                  <a:pt x="11713" y="3837"/>
                </a:moveTo>
                <a:lnTo>
                  <a:pt x="14290" y="6448"/>
                </a:ln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lnTo>
                  <a:pt x="18676" y="10800"/>
                </a:lnTo>
                <a:lnTo>
                  <a:pt x="17023" y="10800"/>
                </a:lnTo>
                <a:lnTo>
                  <a:pt x="17023" y="17989"/>
                </a:lnTo>
                <a:lnTo>
                  <a:pt x="6404" y="17989"/>
                </a:lnTo>
                <a:lnTo>
                  <a:pt x="6404" y="10800"/>
                </a:lnTo>
                <a:lnTo>
                  <a:pt x="4751" y="10800"/>
                </a:lnTo>
                <a:close/>
              </a:path>
              <a:path fill="darkenLess" w="23427" h="21600">
                <a:moveTo>
                  <a:pt x="14290" y="6448"/>
                </a:moveTo>
                <a:lnTo>
                  <a:pt x="14290" y="4707"/>
                </a:lnTo>
                <a:lnTo>
                  <a:pt x="16065" y="4707"/>
                </a:lnTo>
                <a:lnTo>
                  <a:pt x="16065" y="8224"/>
                </a:lnTo>
                <a:close/>
              </a:path>
              <a:path fill="darkenLess" w="23427" h="21600">
                <a:moveTo>
                  <a:pt x="10791" y="14299"/>
                </a:moveTo>
                <a:lnTo>
                  <a:pt x="12636" y="14299"/>
                </a:lnTo>
                <a:lnTo>
                  <a:pt x="12636" y="17989"/>
                </a:lnTo>
                <a:lnTo>
                  <a:pt x="17023" y="17989"/>
                </a:lnTo>
                <a:lnTo>
                  <a:pt x="17023" y="10800"/>
                </a:lnTo>
                <a:lnTo>
                  <a:pt x="6404" y="10800"/>
                </a:lnTo>
                <a:lnTo>
                  <a:pt x="6404" y="17989"/>
                </a:lnTo>
                <a:lnTo>
                  <a:pt x="10791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684360" y="5445000"/>
            <a:ext cx="1079280" cy="621000"/>
          </a:xfrm>
          <a:custGeom>
            <a:avLst/>
            <a:gdLst>
              <a:gd name="textAreaLeft" fmla="*/ 39960 w 1079280"/>
              <a:gd name="textAreaRight" fmla="*/ 1039320 w 107928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37531" h="21600">
                <a:moveTo>
                  <a:pt x="0" y="0"/>
                </a:moveTo>
                <a:lnTo>
                  <a:pt x="37531" y="0"/>
                </a:lnTo>
                <a:lnTo>
                  <a:pt x="37531" y="21600"/>
                </a:lnTo>
                <a:lnTo>
                  <a:pt x="0" y="21600"/>
                </a:lnTo>
                <a:close/>
              </a:path>
              <a:path fill="lightenLess" w="37531" h="21600">
                <a:moveTo>
                  <a:pt x="0" y="0"/>
                </a:moveTo>
                <a:lnTo>
                  <a:pt x="37531" y="0"/>
                </a:lnTo>
                <a:lnTo>
                  <a:pt x="36131" y="1400"/>
                </a:lnTo>
                <a:lnTo>
                  <a:pt x="1400" y="1400"/>
                </a:lnTo>
                <a:close/>
              </a:path>
              <a:path fill="darken" w="37531" h="21600">
                <a:moveTo>
                  <a:pt x="37531" y="0"/>
                </a:moveTo>
                <a:lnTo>
                  <a:pt x="37531" y="21600"/>
                </a:lnTo>
                <a:lnTo>
                  <a:pt x="36131" y="20200"/>
                </a:lnTo>
                <a:lnTo>
                  <a:pt x="36131" y="1400"/>
                </a:lnTo>
                <a:close/>
              </a:path>
              <a:path fill="darkenLess" w="37531" h="21600">
                <a:moveTo>
                  <a:pt x="37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31" y="20200"/>
                </a:lnTo>
                <a:close/>
              </a:path>
              <a:path fill="lighten" w="37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0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0:20:51Z</dcterms:created>
  <dc:creator>Алла</dc:creator>
  <dc:description/>
  <dc:language>en-US</dc:language>
  <cp:lastModifiedBy>Алла</cp:lastModifiedBy>
  <dcterms:modified xsi:type="dcterms:W3CDTF">2005-12-17T02:42:36Z</dcterms:modified>
  <cp:revision>12</cp:revision>
  <dc:subject/>
  <dc:title>Графический редактор</dc:title>
</cp:coreProperties>
</file>